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F22D995-6B07-47AA-A900-1C7D95047B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547379B-0F64-4E66-8CF7-CAD9C77231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7EFD175-7E0A-4893-954E-72578A1DCF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7130615-5937-4C80-9778-F8AF05C4A4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C1A071B-7851-4A1F-A07E-FB37B77968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F5F609A-FA93-4E24-B43C-CDF8B8D4FD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66735DC-6B2C-4C39-8200-A996AB2CB6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434AB11-FD1E-4659-98C1-F34555CB1B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CC376E7-E1D5-465A-AD38-8295006C71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8E93556-7992-4DE6-AD88-078C8EB6CE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Picture 5" descr="C:\dcwfiles\Logo.GIF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Rectangle 6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97AE9-8A13-4CD3-A2C9-F99D3985191B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Introduction &amp; Agend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0" name="Object 5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Rectangle 6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AutoShape 9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Rectangle 11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e-requisi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ttendees are expected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o be familiar with the CIS/2 documentatio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o bring their own Laptop PC with CDROM drive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referably with their potential CIS/2-conformant application installed.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o bring detailed documentation for their native data structure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o be experienced software developer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with a detailed understanding of the native data structures of their application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o discuss what progress they have ma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nd what difficulties they have encountered during their translator development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tent of the workshop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o equip each of you with the knowledge necessary to implement CIS/2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o enable you to effectively pursue and complete translator development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is workshop will have interactive environment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cluding discussions, question &amp; answer sessions, tutorials and workshop sessions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This translates to a great deal of hands-on experienc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articip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83400" indent="-383400">
              <a:spcBef>
                <a:spcPts val="799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00"/>
                </a:solidFill>
                <a:latin typeface="Arial"/>
              </a:rPr>
              <a:t>The success of this workshop depends upon the participation of each attendee.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3400" indent="-38340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ach day is packed with information and exercises,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ry to endure thi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e as involved as possib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sk as many questions as you lik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3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3400" indent="-38340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Don't leave this workshop with questions unanswered!!!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y 1 - Monda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3" name="Object 3" descr=""/>
          <p:cNvPicPr/>
          <p:nvPr/>
        </p:nvPicPr>
        <p:blipFill>
          <a:blip r:embed="rId1"/>
          <a:stretch/>
        </p:blipFill>
        <p:spPr>
          <a:xfrm>
            <a:off x="115920" y="762120"/>
            <a:ext cx="8875800" cy="54608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y 2 - Tuesda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5" name="Object 3" descr=""/>
          <p:cNvPicPr/>
          <p:nvPr/>
        </p:nvPicPr>
        <p:blipFill>
          <a:blip r:embed="rId1"/>
          <a:stretch/>
        </p:blipFill>
        <p:spPr>
          <a:xfrm>
            <a:off x="192240" y="762120"/>
            <a:ext cx="8875440" cy="54766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y 3 - Wednesda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7" name="Object 3" descr=""/>
          <p:cNvPicPr/>
          <p:nvPr/>
        </p:nvPicPr>
        <p:blipFill>
          <a:blip r:embed="rId1"/>
          <a:stretch/>
        </p:blipFill>
        <p:spPr>
          <a:xfrm>
            <a:off x="115920" y="741240"/>
            <a:ext cx="8875800" cy="55072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y 4 - Thursda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9" name="Object 3" descr=""/>
          <p:cNvPicPr/>
          <p:nvPr/>
        </p:nvPicPr>
        <p:blipFill>
          <a:blip r:embed="rId1"/>
          <a:stretch/>
        </p:blipFill>
        <p:spPr>
          <a:xfrm>
            <a:off x="268200" y="1019160"/>
            <a:ext cx="8607600" cy="51530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y 5 - Frida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1" name="Object 2067" descr=""/>
          <p:cNvPicPr/>
          <p:nvPr/>
        </p:nvPicPr>
        <p:blipFill>
          <a:blip r:embed="rId1"/>
          <a:stretch/>
        </p:blipFill>
        <p:spPr>
          <a:xfrm>
            <a:off x="268200" y="846000"/>
            <a:ext cx="8607600" cy="5241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14:49:47Z</dcterms:created>
  <dc:creator>Andrew Crowley</dc:creator>
  <dc:description/>
  <dc:language>en-US</dc:language>
  <cp:lastModifiedBy>Robert Lipman</cp:lastModifiedBy>
  <cp:lastPrinted>1999-02-12T12:33:41Z</cp:lastPrinted>
  <dcterms:modified xsi:type="dcterms:W3CDTF">2012-02-17T21:43:23Z</dcterms:modified>
  <cp:revision>7</cp:revision>
  <dc:subject/>
  <dc:title>CIS/2 Implementation Workshop III,  3-7 April 2000, Ascot</dc:title>
</cp:coreProperties>
</file>