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26D7-88A1-4501-8235-008A2B072614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619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tem 2.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(4) Introduction to NIST Expresso T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838080" y="182880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381480" y="2543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2743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524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Crea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create entity instanc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Viewe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-X vie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XPRESS Edi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ally update schema,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dd PRIN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ntity Graph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graph entiti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76520" y="1981080"/>
          <a:ext cx="6324480" cy="39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81080"/>
                    <a:ext cx="6324480" cy="39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631960" y="30132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31960" y="396540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un All Rul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validate all th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Control Panel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ve data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Statistic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how Instanc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the data as part 21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66680" y="1828800"/>
          <a:ext cx="7315200" cy="43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31520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146320" y="24764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46320" y="2705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46320" y="29210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46320" y="4660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343400" y="3276720"/>
            <a:ext cx="3238200" cy="1218960"/>
            <a:chOff x="4343400" y="3276720"/>
            <a:chExt cx="3238200" cy="1218960"/>
          </a:xfrm>
        </p:grpSpPr>
        <p:sp>
          <p:nvSpPr>
            <p:cNvPr id="104" name=""/>
            <p:cNvSpPr/>
            <p:nvPr/>
          </p:nvSpPr>
          <p:spPr>
            <a:xfrm>
              <a:off x="4343400" y="3276720"/>
              <a:ext cx="228600" cy="12189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5240" y="3657600"/>
              <a:ext cx="300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XPRESS-X rel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-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35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07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687760" y="2438280"/>
            <a:ext cx="3414600" cy="825480"/>
            <a:chOff x="2687760" y="2438280"/>
            <a:chExt cx="3414600" cy="825480"/>
          </a:xfrm>
        </p:grpSpPr>
        <p:sp>
          <p:nvSpPr>
            <p:cNvPr id="110" name=""/>
            <p:cNvSpPr/>
            <p:nvPr/>
          </p:nvSpPr>
          <p:spPr>
            <a:xfrm>
              <a:off x="3663720" y="2438280"/>
              <a:ext cx="1468440" cy="82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xpress-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1" name=""/>
            <p:cNvCxnSpPr>
              <a:stCxn id="107" idx="3"/>
              <a:endCxn id="110" idx="1"/>
            </p:cNvCxnSpPr>
            <p:nvPr/>
          </p:nvCxnSpPr>
          <p:spPr>
            <a:xfrm>
              <a:off x="2687760" y="2854080"/>
              <a:ext cx="97056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stCxn id="110" idx="3"/>
              <a:endCxn id="108" idx="1"/>
            </p:cNvCxnSpPr>
            <p:nvPr/>
          </p:nvCxnSpPr>
          <p:spPr>
            <a:xfrm>
              <a:off x="5138280" y="2854080"/>
              <a:ext cx="9644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13" name=""/>
          <p:cNvGrpSpPr/>
          <p:nvPr/>
        </p:nvGrpSpPr>
        <p:grpSpPr>
          <a:xfrm>
            <a:off x="1371600" y="3429000"/>
            <a:ext cx="5943600" cy="1676520"/>
            <a:chOff x="1371600" y="3429000"/>
            <a:chExt cx="5943600" cy="1676520"/>
          </a:xfrm>
        </p:grpSpPr>
        <p:sp>
          <p:nvSpPr>
            <p:cNvPr id="114" name=""/>
            <p:cNvSpPr/>
            <p:nvPr/>
          </p:nvSpPr>
          <p:spPr>
            <a:xfrm>
              <a:off x="1371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943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0512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00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571840" y="3429000"/>
            <a:ext cx="3543480" cy="1448280"/>
            <a:chOff x="2571840" y="3429000"/>
            <a:chExt cx="3543480" cy="1448280"/>
          </a:xfrm>
        </p:grpSpPr>
        <p:sp>
          <p:nvSpPr>
            <p:cNvPr id="119" name=""/>
            <p:cNvSpPr/>
            <p:nvPr/>
          </p:nvSpPr>
          <p:spPr>
            <a:xfrm>
              <a:off x="3428640" y="4343400"/>
              <a:ext cx="190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ata 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14" idx="2"/>
              <a:endCxn id="115" idx="5"/>
            </p:cNvCxnSpPr>
            <p:nvPr/>
          </p:nvCxnSpPr>
          <p:spPr>
            <a:xfrm>
              <a:off x="2571840" y="4876560"/>
              <a:ext cx="35438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references …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log 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e only comman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066680" y="2057400"/>
          <a:ext cx="7239240" cy="39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7400"/>
                    <a:ext cx="7239240" cy="39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14400" y="1828800"/>
          <a:ext cx="7696080" cy="41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7696080" cy="41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90720" y="1852560"/>
          <a:ext cx="7619760" cy="41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52560"/>
                    <a:ext cx="761976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outline the potential of Expres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nable the participants to make use of Expresso during the Worksh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38080" y="1905120"/>
          <a:ext cx="7696440" cy="41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69644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lp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Info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sion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atch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are loa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eport a bug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send a p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nline “manual” on we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Summa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33526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2666880"/>
            <a:ext cx="2209680" cy="11430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55080" y="2768760"/>
            <a:ext cx="9777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3200040" y="1981080"/>
            <a:ext cx="609840" cy="609480"/>
          </a:xfrm>
          <a:custGeom>
            <a:avLst/>
            <a:gdLst>
              <a:gd name="textAreaLeft" fmla="*/ 174960 w 609840"/>
              <a:gd name="textAreaRight" fmla="*/ 522360 w 6098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rot="5400000">
            <a:off x="4724280" y="1981080"/>
            <a:ext cx="609840" cy="609840"/>
          </a:xfrm>
          <a:custGeom>
            <a:avLst/>
            <a:gdLst>
              <a:gd name="textAreaLeft" fmla="*/ 175320 w 609840"/>
              <a:gd name="textAreaRight" fmla="*/ 522720 w 609840"/>
              <a:gd name="textAreaTop" fmla="*/ 351360 h 609840"/>
              <a:gd name="textAreaBottom" fmla="*/ 5223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560" y="19051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it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87480" y="19051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iew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102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000" y="2743200"/>
            <a:ext cx="14698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838080" y="3809880"/>
            <a:ext cx="7010640" cy="1983960"/>
            <a:chOff x="838080" y="3809880"/>
            <a:chExt cx="7010640" cy="1983960"/>
          </a:xfrm>
        </p:grpSpPr>
        <p:sp>
          <p:nvSpPr>
            <p:cNvPr id="152" name=""/>
            <p:cNvSpPr/>
            <p:nvPr/>
          </p:nvSpPr>
          <p:spPr>
            <a:xfrm>
              <a:off x="3200400" y="3809880"/>
              <a:ext cx="2209680" cy="1295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Instan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80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2880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5508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oa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8488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6344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00400" y="5181480"/>
              <a:ext cx="609480" cy="609840"/>
            </a:xfrm>
            <a:custGeom>
              <a:avLst/>
              <a:gdLst>
                <a:gd name="textAreaLeft" fmla="*/ 174960 w 609480"/>
                <a:gd name="textAreaRight" fmla="*/ 522000 w 609480"/>
                <a:gd name="textAreaTop" fmla="*/ 351360 h 609840"/>
                <a:gd name="textAreaBottom" fmla="*/ 52236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52480" y="5334120"/>
              <a:ext cx="134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Edit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4724280" y="5105520"/>
              <a:ext cx="609840" cy="609480"/>
            </a:xfrm>
            <a:custGeom>
              <a:avLst/>
              <a:gdLst>
                <a:gd name="textAreaLeft" fmla="*/ 175320 w 609840"/>
                <a:gd name="textAreaRight" fmla="*/ 522720 w 609840"/>
                <a:gd name="textAreaTop" fmla="*/ 351000 h 609480"/>
                <a:gd name="textAreaBottom" fmla="*/ 52200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33040" y="5334120"/>
              <a:ext cx="186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Validate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rief Demonstr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6232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2514600"/>
            <a:ext cx="40384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81080" y="4952880"/>
            <a:ext cx="76212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4952880"/>
            <a:ext cx="76176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5867280"/>
            <a:ext cx="4038480" cy="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10240" y="54100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858000" y="2438280"/>
            <a:ext cx="0" cy="243864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34680" y="342900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9308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412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5760" y="1905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9348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Expresso Too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ed by Peter Denno of N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ilable at no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load from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mel.nist.gov/msidstaff/denno/nist-expresso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dows 95 and 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vely stable and rob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resso Loading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167652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an EXPR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detect (well) the presence of e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lk over the loaded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ing inspection of the 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ph EXPRESS subtype tr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and write 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the validation and creation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 EXPRESS-X map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not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lace a (commercial) STEP toolkit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jor EXPRESS model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or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ations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 and hungry (implemented in lis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model error diagno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PI for pr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 style EXPRESS ed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levance of Expresso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spection and view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existin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EXPRESS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.e. LPM/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reation, editing and validation o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no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o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generation of CC long form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EXPRESS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ed with high fidelity into internal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ror reporting is not very inform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Translated schema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.lsp file for quicker re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2000-04-04T15:03:29Z</dcterms:modified>
  <cp:revision>49</cp:revision>
  <dc:subject/>
  <dc:title>AISC CIS/2  Workshop #I</dc:title>
</cp:coreProperties>
</file>