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3D4E-B812-4F24-9669-A9DFDFEDD0F3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 - 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25 KLF wind load to each girder (one load case for each direction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0 PSF live load over entire 60 ft x 25 ft plan area of th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0 PSF dead load to each in-fill bea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structure to include self weight of all structural members in DL loading condition for following load cases and combin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 + WL (North Direc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ame Member Siz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lumns are W27x194 members. The web is oriented running North / South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North / South (the 25 foot span) are W24x68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East / West (the 30 foot span) are W21x44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-fill beams are W16x36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angle braces are double angles, L8x8x¾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horizontal bracing members are WT6x11 structural tee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dded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main members are made from A572 Grade 50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nnection material is made from A36 material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gle braces are made from A36 materia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bolts are to be A325 ¾" or 1"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steel will be painted using a Zinc-rich paint.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ion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ase Study is intended as practical, simple problem that will serve as the theme for the entire workshop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should help you relate everything you learn during this workshop to your translator developmen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y participating in the Workshop Sessions based on the Case Study exercise, you will become familiar with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bjectives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identify limitations of your applic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assess the scope of data you may need to exchange to satisfy the needs of end-user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te - end-users may be exchanging data at any point in the supply chai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y of the Fram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frame consists of a single story, one bay in width by two bays in leng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distance from the bottom of the base plate to the top of the beam flanges (T.O.S) is 25 fe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runs East / We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single width of the structure runs North / Sou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width of the structure is 25 feet (centre-to-centre of girder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consists of two bays, each 30 feet in length (centre-to-centre of girders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re are two in-fill beams in each bay running North / South. These in-fill beams are located at 10 feet on cent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rac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rizontal cross brac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to be used in both bays using structural tees with stem pointing downw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western-most bay will start at the Southwest corner and run to the north-eastern corner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eastern-most bay will start at the Northwest corner and run to the south-eastern corne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Vert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X" braced using double angl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work points for the bracing is the gravity axis of all connected elements except the angle bracing. The work line will be the angles' gage lin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ach 25 foot spanning bay (girder running North / South) makes a rigid connection to the supporting column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eam end connection is designed to fully develop the member's capacity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race end connections will be designed to develop ½ of the member's axial capacity or as required by the applied load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horizontal bracing members are to be bolted to the in-fill beams as they run under the in-fill beams using filler plates as necessary.  The horizontal bracing members are connected to the in-fill beams framing at the column locations with ½" thick gusset plates and (4) four A325 ¾" bolt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in-fill beams' end connections are to be designed to develop ½ of the member's allowable bending capacity. The connections shall consist of using shear tab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column bases will not be designed to transfer any moment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8:5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9:11Z</dcterms:modified>
  <cp:revision>3</cp:revision>
  <dc:subject/>
  <dc:title>CIS/2 Implementation Workshop III,  3-7 April 2000, Ascot</dc:title>
</cp:coreProperties>
</file>