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A9D55-5838-472B-9BEF-B124FA85C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83328-F9EC-4F2F-A178-4392E2F4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0F003-2671-4F9A-B0F8-48C4B440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EA59C-8072-49D1-A31B-0462BF27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F1D1E-33DF-4066-8FF8-DD6AB15E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04499-BC74-41E6-9E95-D678E188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9AB6D-F072-43FC-96A3-CCC489FF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44E02-B453-46C2-B1CA-A9826EE4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00E2E-12E6-44C6-A3EE-9DD7CF96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55501-0021-4DB8-993B-1CC1E575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AAC45-83AA-4261-ACB8-7D3E9FB2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FDD20-360D-4CE7-AD25-7871C7B3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imes New Roman"/>
              </a:rPr>
              <a:t>San Francisco</a:t>
            </a:r>
            <a:r>
              <a:rPr b="1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0199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78963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06668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5E72-DF5D-4A2B-8079-FBAA1B7C5041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838080" y="2133720"/>
          <a:ext cx="6934320" cy="350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133720"/>
                    <a:ext cx="693432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437040" y="303840"/>
            <a:ext cx="76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1840" y="4266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8560" y="434304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4440" y="2514240"/>
            <a:ext cx="119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un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7360" y="129420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epared by Fried Augenbro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219320" y="1981080"/>
          <a:ext cx="2809800" cy="14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981080"/>
                    <a:ext cx="2809800" cy="14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5334120" y="4800600"/>
          <a:ext cx="1962000" cy="163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4120" y="4800600"/>
                    <a:ext cx="196200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533520" y="1293840"/>
            <a:ext cx="6705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1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is from a non-managed ‘upstream’ structural layout actor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the file describes an analysis model of a simple 2D frame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3385440"/>
            <a:ext cx="7619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2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the result of three managed data transactions by Organization 1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import of File 1 with a STEP file im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creation of load data with a CIS/2 Data Management Compliant (DMC) application SoftX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export of STEP file 2 with managed data using the SoftX STEP file ex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9720" y="357840"/>
            <a:ext cx="76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352680" y="3352680"/>
          <a:ext cx="2028960" cy="138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3352680"/>
                    <a:ext cx="2028960" cy="13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533520" y="1286640"/>
            <a:ext cx="7924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3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contains the result of three managed data transactions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creation of new data: cross-sections of the two columns and the beam. This is done with the DMC application SoftY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modifications of the imported analysis model to allow the inclusion of the element cross sections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export of STEP File 3 with managed data using the SoftY STEP file ex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93640" y="417960"/>
            <a:ext cx="58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00:48:48Z</dcterms:created>
  <dc:creator>Administrator</dc:creator>
  <dc:description/>
  <dc:language>en-US</dc:language>
  <cp:lastModifiedBy>Eastman</cp:lastModifiedBy>
  <dcterms:modified xsi:type="dcterms:W3CDTF">2001-10-31T03:41:38Z</dcterms:modified>
  <cp:revision>5</cp:revision>
  <dc:subject/>
  <dc:title>No Slide Title</dc:title>
</cp:coreProperties>
</file>