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F5FD-7724-4E17-AA61-A369E56C6173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040" y="2819520"/>
            <a:ext cx="7467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horthand defin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erences pre-defined elements from existing EXPRESS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eclarations of TYPES, ENTITIES,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TEP toolkit will automatically generate the corresponding “long form”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EP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581280"/>
            <a:ext cx="4284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600" y="495288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0920" y="502920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720" y="22860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676520"/>
            <a:ext cx="2209680" cy="17524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PM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280" y="495288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2800" y="518148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080" y="2286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5120" y="914400"/>
            <a:ext cx="86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HEMA LPM5_CC001;  -- date_and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FROM STRUCTURAL_FRAME_SCHEMA (date_and_tim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- Base Entity - frequently used in other 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FERENCE FROM STRUCTURAL_FRAME_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ordinated_universal_time_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143000"/>
            <a:ext cx="8686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ahead_or_beh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_in_month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r_in_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ute_in_h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th_in_year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_in_minu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_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leap_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_SCH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ted from the short for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a STEP toolk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schema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 to that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types or entities may be pulled i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S may also be pulled i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mbering of C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001 - CC035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Resour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0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1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2 - CC339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ecific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4, CC123, CC223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articular CCC is deno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C201+CC203)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5, (CC201+CC203)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2362320"/>
            <a:ext cx="3657600" cy="2895480"/>
          </a:xfrm>
          <a:prstGeom prst="cloudCallout">
            <a:avLst>
              <a:gd name="adj1" fmla="val 37717"/>
              <a:gd name="adj2" fmla="val -149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27672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Ex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17980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953"/>
              <a:gd name="adj5" fmla="val 57972"/>
              <a:gd name="adj6" fmla="val -5737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895480"/>
            <a:ext cx="1752480" cy="175284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88944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7740"/>
              <a:gd name="adj5" fmla="val -24930"/>
              <a:gd name="adj6" fmla="val -69180"/>
            </a:avLst>
          </a:prstGeom>
          <a:solidFill>
            <a:srgbClr val="ffff66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CC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200400"/>
            <a:ext cx="99072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200400"/>
            <a:ext cx="99036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352680"/>
            <a:ext cx="1295280" cy="12956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657600"/>
            <a:ext cx="914400" cy="9144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10552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1295280"/>
            <a:ext cx="464832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4884"/>
              <a:gd name="adj5" fmla="val 451407"/>
              <a:gd name="adj6" fmla="val -1656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ed lesser (supported)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Im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888"/>
              <a:gd name="adj5" fmla="val 49453"/>
              <a:gd name="adj6" fmla="val -52013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1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66"/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66"/>
            </a:soli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CCC scope of import trans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562720" y="5486400"/>
            <a:ext cx="33526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7472"/>
              <a:gd name="adj5" fmla="val 17291"/>
              <a:gd name="adj6" fmla="val -33236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Populated greater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rm borrowed from ISO10303 (STEP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a logical subset of LPM/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ecify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compli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have hard boundar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entities within must be supported in full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IS/2 documentation pre-defines 275 modular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is focused on a different base ent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ing point for defining a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entities where pulled-in th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it references direct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that must point at 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es those CCs that are most likely to be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selected bases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is designed to be minim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mall coherent building block within a much larger LPM/5 </a:t>
            </a:r>
            <a:r>
              <a:rPr b="1" i="1" lang="en-US" sz="2400" spc="-1" strike="noStrike">
                <a:solidFill>
                  <a:srgbClr val="00cc99"/>
                </a:solidFill>
                <a:latin typeface="Arial"/>
              </a:rPr>
              <a:t>(ato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egitimate set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necessarily a meaningful set of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can be used individually or in combination </a:t>
            </a:r>
            <a:r>
              <a:rPr b="1" i="1" lang="en-US" sz="2800" spc="-1" strike="noStrike">
                <a:solidFill>
                  <a:srgbClr val="00cc99"/>
                </a:solidFill>
                <a:latin typeface="Arial"/>
              </a:rPr>
              <a:t>(molecule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hich CC Combinations to 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95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97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21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24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27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685800"/>
          <a:ext cx="8944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944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04760" y="57150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1 = entities A1+A11+A111+B1+B11+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8920" y="838080"/>
          <a:ext cx="899640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838080"/>
                    <a:ext cx="89964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4920" y="54100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2 = entities B1+B12+D1+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overall scope of a particular translator corresponds to a particular CC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rectly translat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data within that valid sub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entity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(non OPTIONAL) attribu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lator may provide user control for exporting or importing lesser CC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9:35Z</dcterms:created>
  <dc:creator>Andrew Crowley</dc:creator>
  <dc:description/>
  <dc:language>en-US</dc:language>
  <cp:lastModifiedBy>Andrew Crowley</cp:lastModifiedBy>
  <dcterms:modified xsi:type="dcterms:W3CDTF">2000-11-14T14:55:29Z</dcterms:modified>
  <cp:revision>8</cp:revision>
  <dc:subject/>
  <dc:title>CIS/2 Workshop 5, Houston, TX 13th Nov 2000</dc:title>
</cp:coreProperties>
</file>