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B78F-717C-412A-85EA-76B70B241451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91" name="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5" name="00007352" descr="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7" name="00007353" descr="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9" name="00007356" descr="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1" name="DesignDataDetai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5:05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47Z</dcterms:modified>
  <cp:revision>2</cp:revision>
  <dc:subject/>
  <dc:title>CIS/2 Implementation Workshop III,  3-7 April 2000, Ascot</dc:title>
</cp:coreProperties>
</file>