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26A98-F461-439C-8AB6-FDF8F792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E1850-37BE-4981-A437-34C5655D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7B665-5D77-4792-A075-76089E62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ACA98-B788-4D2B-B244-AE5F4FC0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0FF6A-AB76-496B-81DB-DBAEA91B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618FA-2285-4196-B745-F318C7FB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CF3FC-4994-4F5B-A0B1-4B87A420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461BF-8728-4426-B4FC-06E4EA5C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907A7-A198-47C1-BCA3-787AF6D5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34652-B115-476A-AAAF-417E198D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684E1-3199-40F1-9A35-56E5BED2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2D709-5E8E-46F4-8AF2-146BB694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3+14 November 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ISC CIS/2 worksh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oad towards a Pilot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ing CIS/2 based data exchange in action in a real lif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lection of Pilo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4300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0840" y="525780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25920" y="52722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partn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6800" y="4433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6800" y="29862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3809880"/>
            <a:ext cx="2590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3623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32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8428400">
            <a:off x="2095560" y="354276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5627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000" y="52578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qu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08120" y="525780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ly iter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0040" y="43434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rai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56160" y="298620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3809880"/>
            <a:ext cx="2590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78168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4504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8428400">
            <a:off x="6515280" y="35427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00960" y="222408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velty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03000" y="22240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 Problems with workflo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4960" y="1981080"/>
            <a:ext cx="53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the exchange with the 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3480" y="44956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2200" y="4890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23920" y="451008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32560" y="510552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iver to downstream 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Problems with data manag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6400" y="1981080"/>
            <a:ext cx="47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disconnects and missing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24080" y="4667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0080" y="2209680"/>
            <a:ext cx="293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raise ex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obal state of ex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t out of deadlock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 responsibi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ount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wnership of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gal 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V. Ambition lev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4097160" cy="4105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181480" y="4572000"/>
            <a:ext cx="990720" cy="380880"/>
          </a:xfrm>
          <a:prstGeom prst="leftArrow">
            <a:avLst>
              <a:gd name="adj1" fmla="val 50000"/>
              <a:gd name="adj2" fmla="val 65028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20520" y="4495680"/>
            <a:ext cx="24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rent ambition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2133720"/>
            <a:ext cx="0" cy="220968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29320" y="2666880"/>
            <a:ext cx="349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ou need some poor man’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management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-ordination (or raise ambi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v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. Selection of Projec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67280" y="1981080"/>
            <a:ext cx="4271040" cy="1296720"/>
            <a:chOff x="1367280" y="1981080"/>
            <a:chExt cx="4271040" cy="1296720"/>
          </a:xfrm>
        </p:grpSpPr>
        <p:grpSp>
          <p:nvGrpSpPr>
            <p:cNvPr id="349" name=""/>
            <p:cNvGrpSpPr/>
            <p:nvPr/>
          </p:nvGrpSpPr>
          <p:grpSpPr>
            <a:xfrm>
              <a:off x="3962520" y="1981080"/>
              <a:ext cx="1675800" cy="1296720"/>
              <a:chOff x="3962520" y="1981080"/>
              <a:chExt cx="1675800" cy="1296720"/>
            </a:xfrm>
          </p:grpSpPr>
          <p:sp>
            <p:nvSpPr>
              <p:cNvPr id="350" name=""/>
              <p:cNvSpPr/>
              <p:nvPr/>
            </p:nvSpPr>
            <p:spPr>
              <a:xfrm>
                <a:off x="4341960" y="2206800"/>
                <a:ext cx="927360" cy="77796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7280" y="271188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660560" y="245340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54800" y="1981080"/>
                <a:ext cx="15480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46840" y="2715840"/>
                <a:ext cx="1562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4545720" y="2615760"/>
                <a:ext cx="135720" cy="99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4505400" y="2155680"/>
                <a:ext cx="198360" cy="55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24000" y="2072160"/>
                <a:ext cx="272880" cy="64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17160" y="2558880"/>
                <a:ext cx="250560" cy="18144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62520" y="2791080"/>
                <a:ext cx="468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94440" y="2817720"/>
                <a:ext cx="44388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96720" y="2697480"/>
                <a:ext cx="18468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367280" y="2209680"/>
              <a:ext cx="216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dentification (PW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445400" y="3200040"/>
            <a:ext cx="3050280" cy="1006920"/>
            <a:chOff x="1445400" y="3200040"/>
            <a:chExt cx="3050280" cy="1006920"/>
          </a:xfrm>
        </p:grpSpPr>
        <p:grpSp>
          <p:nvGrpSpPr>
            <p:cNvPr id="364" name=""/>
            <p:cNvGrpSpPr/>
            <p:nvPr/>
          </p:nvGrpSpPr>
          <p:grpSpPr>
            <a:xfrm>
              <a:off x="3809880" y="3200040"/>
              <a:ext cx="685800" cy="1006920"/>
              <a:chOff x="3809880" y="3200040"/>
              <a:chExt cx="685800" cy="1006920"/>
            </a:xfrm>
          </p:grpSpPr>
          <p:sp>
            <p:nvSpPr>
              <p:cNvPr id="365" name=""/>
              <p:cNvSpPr/>
              <p:nvPr/>
            </p:nvSpPr>
            <p:spPr>
              <a:xfrm>
                <a:off x="3809880" y="388620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380988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09880" y="349740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2236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81160" y="356580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3505320"/>
                <a:ext cx="304560" cy="38088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8428400">
                <a:off x="3947040" y="3367800"/>
                <a:ext cx="288720" cy="258840"/>
              </a:xfrm>
              <a:prstGeom prst="rightArrow">
                <a:avLst>
                  <a:gd name="adj1" fmla="val 50000"/>
                  <a:gd name="adj2" fmla="val 27886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1445400" y="3276720"/>
              <a:ext cx="166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ovelty fa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446840" y="4191120"/>
            <a:ext cx="3277440" cy="1005840"/>
            <a:chOff x="1446840" y="4191120"/>
            <a:chExt cx="3277440" cy="1005840"/>
          </a:xfrm>
        </p:grpSpPr>
        <p:grpSp>
          <p:nvGrpSpPr>
            <p:cNvPr id="374" name=""/>
            <p:cNvGrpSpPr/>
            <p:nvPr/>
          </p:nvGrpSpPr>
          <p:grpSpPr>
            <a:xfrm>
              <a:off x="4038480" y="4191120"/>
              <a:ext cx="685800" cy="1005840"/>
              <a:chOff x="4038480" y="4191120"/>
              <a:chExt cx="685800" cy="1005840"/>
            </a:xfrm>
          </p:grpSpPr>
          <p:sp>
            <p:nvSpPr>
              <p:cNvPr id="375" name=""/>
              <p:cNvSpPr/>
              <p:nvPr/>
            </p:nvSpPr>
            <p:spPr>
              <a:xfrm>
                <a:off x="4038480" y="487656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403848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38480" y="448776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435096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09760" y="455616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38480" y="449568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428400">
                <a:off x="4175640" y="435780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1446840" y="4267080"/>
              <a:ext cx="138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mplex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440720" y="5105520"/>
            <a:ext cx="35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 and downstream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32080" y="5791320"/>
            <a:ext cx="70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age aspects: resolve disconnects, poor man’s data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. Development pat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7920" y="2209680"/>
            <a:ext cx="656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Project Wind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Init and Exit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ke init test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base line functional interfaces to be used within P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 a ‘clinic’ using a past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st exceptions/ disconnects/ iterations /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cide GO/NO-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 a real world project: choose success meas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oint Data Exchange Project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n project through DEP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4680" y="358128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ISC worksh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2080" y="3124080"/>
            <a:ext cx="17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mote te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200" y="1828800"/>
            <a:ext cx="1676160" cy="1296720"/>
            <a:chOff x="457200" y="1828800"/>
            <a:chExt cx="1676160" cy="1296720"/>
          </a:xfrm>
        </p:grpSpPr>
        <p:sp>
          <p:nvSpPr>
            <p:cNvPr id="390" name=""/>
            <p:cNvSpPr/>
            <p:nvPr/>
          </p:nvSpPr>
          <p:spPr>
            <a:xfrm>
              <a:off x="836640" y="2054520"/>
              <a:ext cx="927360" cy="7779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21960" y="255960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55240" y="230112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9840" y="1828800"/>
              <a:ext cx="15480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41880" y="2563560"/>
              <a:ext cx="1562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040400" y="2463480"/>
              <a:ext cx="135720" cy="997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000080" y="2003400"/>
              <a:ext cx="198360" cy="55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18680" y="1919880"/>
              <a:ext cx="272880" cy="64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12200" y="2406600"/>
              <a:ext cx="250560" cy="1814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200" y="2638800"/>
              <a:ext cx="468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89480" y="2665440"/>
              <a:ext cx="4438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91760" y="2545200"/>
              <a:ext cx="184680" cy="5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37360" y="55627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oni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85800" y="4114800"/>
            <a:ext cx="1219320" cy="1234440"/>
            <a:chOff x="685800" y="4114800"/>
            <a:chExt cx="1219320" cy="1234440"/>
          </a:xfrm>
        </p:grpSpPr>
        <p:grpSp>
          <p:nvGrpSpPr>
            <p:cNvPr id="404" name=""/>
            <p:cNvGrpSpPr/>
            <p:nvPr/>
          </p:nvGrpSpPr>
          <p:grpSpPr>
            <a:xfrm>
              <a:off x="685800" y="4114800"/>
              <a:ext cx="685800" cy="1005840"/>
              <a:chOff x="685800" y="4114800"/>
              <a:chExt cx="685800" cy="100584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8002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8580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85800" y="44114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99828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7080" y="44798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85800" y="44193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8428400">
                <a:off x="822960" y="42814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219320" y="4343400"/>
              <a:ext cx="685800" cy="1005840"/>
              <a:chOff x="1219320" y="4343400"/>
              <a:chExt cx="685800" cy="1005840"/>
            </a:xfrm>
          </p:grpSpPr>
          <p:sp>
            <p:nvSpPr>
              <p:cNvPr id="413" name=""/>
              <p:cNvSpPr/>
              <p:nvPr/>
            </p:nvSpPr>
            <p:spPr>
              <a:xfrm>
                <a:off x="1219320" y="50288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21932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19320" y="46400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53180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90600" y="47084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19320" y="46479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428400">
                <a:off x="1356480" y="45100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mo states 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9360" y="2286000"/>
            <a:ext cx="783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1: develop working inte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2: data roundtrips (artificial scenari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3: stage a ‘clinic’ demo (scenario driven) with participating aud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4: select project with ‘friendly’ partners (allow extra budget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5: develop business case and Pilot scen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6: execute the next project that comes alo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0240" y="2111400"/>
            <a:ext cx="51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Real world project: asp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. Problems and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. Ambition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 Selection of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. Development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8480" y="2327400"/>
            <a:ext cx="7762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bjective of this present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select and execute a real life PILOT projec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eful selection, low ambition, anticipation of problem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ing, testing, ……’run a clinic’, …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have migration strategy to real life project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rules of the gam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560" y="2438280"/>
            <a:ext cx="8238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realistic (and any pre-conditioning ‘invisible’) to convi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so simple that it can be performed with what we h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measures of success must be non-trivi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(explicit business case?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06840" y="2711520"/>
            <a:ext cx="3487680" cy="1949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38480" y="3187800"/>
            <a:ext cx="266220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ILOT: A ‘window’ on the complete proces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2440" y="133668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37000" y="473076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32446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2120" y="47880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16680" y="396864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30880" y="292104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9160" y="5067360"/>
            <a:ext cx="14605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7440" y="2781360"/>
            <a:ext cx="160020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0440" y="4971960"/>
            <a:ext cx="11257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18240" y="3733920"/>
            <a:ext cx="615600" cy="1047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767560" y="3295800"/>
            <a:ext cx="457200" cy="1713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05560" y="4438440"/>
            <a:ext cx="511200" cy="3999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7040" y="3390840"/>
            <a:ext cx="404640" cy="60984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402680" y="4171680"/>
            <a:ext cx="844560" cy="190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95760" y="333684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07120" y="282240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959360" y="4210200"/>
            <a:ext cx="1951200" cy="723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8160" y="1066680"/>
            <a:ext cx="29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1: Tea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2: Team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010280" y="5105520"/>
            <a:ext cx="2169000" cy="838080"/>
            <a:chOff x="7010280" y="5105520"/>
            <a:chExt cx="2169000" cy="838080"/>
          </a:xfrm>
        </p:grpSpPr>
        <p:sp>
          <p:nvSpPr>
            <p:cNvPr id="127" name=""/>
            <p:cNvSpPr/>
            <p:nvPr/>
          </p:nvSpPr>
          <p:spPr>
            <a:xfrm>
              <a:off x="7010280" y="5105520"/>
              <a:ext cx="1981080" cy="8380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5715000"/>
              <a:ext cx="457200" cy="0"/>
            </a:xfrm>
            <a:prstGeom prst="line">
              <a:avLst/>
            </a:prstGeom>
            <a:ln w="50760">
              <a:solidFill>
                <a:srgbClr val="cbcbc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52320" y="5562720"/>
              <a:ext cx="108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2A ex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2680" y="520380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ctor /Appl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3581280"/>
            <a:ext cx="624852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737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teration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880" y="16765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8862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396252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48006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71800" y="4267080"/>
            <a:ext cx="91440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343400"/>
            <a:ext cx="83808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86400" y="42670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37339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1148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50292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2080" y="114300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importance of incremental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640" y="36576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4320" y="468936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4114800" y="3962520"/>
            <a:ext cx="1600200" cy="1752480"/>
            <a:chOff x="4114800" y="3962520"/>
            <a:chExt cx="1600200" cy="1752480"/>
          </a:xfrm>
        </p:grpSpPr>
        <p:sp>
          <p:nvSpPr>
            <p:cNvPr id="154" name=""/>
            <p:cNvSpPr/>
            <p:nvPr/>
          </p:nvSpPr>
          <p:spPr>
            <a:xfrm>
              <a:off x="4114800" y="3962520"/>
              <a:ext cx="1600200" cy="17524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434340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029200" y="4724280"/>
              <a:ext cx="7632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648320" y="4952880"/>
              <a:ext cx="15228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3400" y="41911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0600" y="41911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4648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5520" y="4495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19720" y="49528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48006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5520" y="51814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4343400"/>
              <a:ext cx="228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880" y="5029200"/>
              <a:ext cx="15264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72000" y="4800600"/>
              <a:ext cx="3808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71640" y="441972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o are the actors in the project?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971800"/>
            <a:ext cx="1523880" cy="144792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029200" y="2590560"/>
            <a:ext cx="114300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4038480"/>
            <a:ext cx="1066680" cy="83844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819160" y="4191120"/>
            <a:ext cx="1066680" cy="9144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19160" y="2437920"/>
            <a:ext cx="990360" cy="76212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2438280"/>
            <a:ext cx="2895840" cy="381240"/>
          </a:xfrm>
          <a:prstGeom prst="leftRightArrow">
            <a:avLst>
              <a:gd name="adj1" fmla="val 50000"/>
              <a:gd name="adj2" fmla="val 151213"/>
            </a:avLst>
          </a:prstGeom>
          <a:solidFill>
            <a:srgbClr val="ffff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????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85760" y="1676520"/>
            <a:ext cx="41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hat other type of interaction occurs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ow to manage in PILO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50292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981080"/>
            <a:ext cx="4791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13372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02920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ditioning: degrees of freedo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3733920"/>
            <a:ext cx="609480" cy="6858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17524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2209680"/>
            <a:ext cx="15264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324480" y="2590920"/>
            <a:ext cx="7632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943600" y="2819160"/>
            <a:ext cx="15228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51460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2362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66688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304812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20968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2895480"/>
            <a:ext cx="15228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866920" y="26668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866920" y="228600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35812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45720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96252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447920" y="44197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7080" y="1600200"/>
            <a:ext cx="48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ased on internal application to applic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greements may lead to proprietary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C cannot be easily replaced by 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2286000"/>
            <a:ext cx="685800" cy="3049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43434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505320"/>
            <a:ext cx="76212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data coordination challen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35812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3581280"/>
            <a:ext cx="1981440" cy="22100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4648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962520"/>
            <a:ext cx="22860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447920" y="4419720"/>
            <a:ext cx="3808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8769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9528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480060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3341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51814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066680" y="48006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5029200"/>
            <a:ext cx="152640" cy="14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51055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752480" y="5028840"/>
            <a:ext cx="1800" cy="1522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4876920"/>
            <a:ext cx="1522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95280" y="5333760"/>
            <a:ext cx="304920" cy="7596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1523880"/>
            <a:ext cx="1981440" cy="2210040"/>
            <a:chOff x="5410080" y="1523880"/>
            <a:chExt cx="1981440" cy="2210040"/>
          </a:xfrm>
        </p:grpSpPr>
        <p:sp>
          <p:nvSpPr>
            <p:cNvPr id="254" name=""/>
            <p:cNvSpPr/>
            <p:nvPr/>
          </p:nvSpPr>
          <p:spPr>
            <a:xfrm>
              <a:off x="5410080" y="1523880"/>
              <a:ext cx="1981440" cy="22100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05720" y="190512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705360" y="2286000"/>
              <a:ext cx="7596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324480" y="25146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199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771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19920" y="2209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81680" y="205740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5880" y="25909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7120" y="2362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81680" y="27432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1905120"/>
              <a:ext cx="22860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25909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248520" y="2362320"/>
              <a:ext cx="3808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248160" y="198108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38680" y="28195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19920" y="28954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274320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32767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00800" y="31240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867280" y="27432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7280" y="2971800"/>
              <a:ext cx="152640" cy="144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30481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553080" y="2971440"/>
              <a:ext cx="1800" cy="1522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9400" y="2819520"/>
              <a:ext cx="1522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095880" y="3276360"/>
              <a:ext cx="304920" cy="759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058760" y="1447920"/>
            <a:ext cx="367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olve inherent proble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f file based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data not used by B gets scrapp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ven if C needs it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638680" y="2819520"/>
            <a:ext cx="914400" cy="83808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38680" y="2819520"/>
            <a:ext cx="914400" cy="76176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1828800"/>
            <a:ext cx="1295280" cy="83808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5T11:06:48Z</dcterms:created>
  <dc:creator>Godfried Augenbroe</dc:creator>
  <dc:description/>
  <dc:language>en-US</dc:language>
  <cp:lastModifiedBy>Godfried Augenbroe</cp:lastModifiedBy>
  <cp:lastPrinted>2000-11-17T22:04:50Z</cp:lastPrinted>
  <dcterms:modified xsi:type="dcterms:W3CDTF">2000-11-17T22:06:46Z</dcterms:modified>
  <cp:revision>58</cp:revision>
  <dc:subject/>
  <dc:title>Performance Assessments of Intermediate Designs</dc:title>
</cp:coreProperties>
</file>