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99CAB-257F-4760-AF99-34BD147F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6136A-7FF3-43EB-9CEB-924A2E23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DDE9D-FC73-4802-A799-F87B96E1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11DC6-9F7E-407F-BD82-B43614F1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AE1D1-01E3-480B-9A68-5B370B91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3CD2A-D847-41D3-A7D0-50B2D009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B885C-8271-4C14-8364-C2E5C6A7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FE9DA-71AD-4ECA-BDBD-BDDBB72F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19593-53E1-4035-905D-C76AC4F2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AF3B4-F200-42A9-A6C1-DC6D0011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EF98C-7B7E-4A5A-A22B-91156AC4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BEC9E-2CF1-4AFA-BA93-A13738B5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33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San Franci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5943600"/>
            <a:ext cx="1752840" cy="742680"/>
            <a:chOff x="838080" y="594360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594360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65532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65856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17256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21576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21576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21576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17256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17544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21900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17544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24060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43248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36444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4018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3644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43248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36444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36768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43248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43248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D8A8-A2BC-4EC1-8DD6-B0965EDFE59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02960" y="304200"/>
            <a:ext cx="473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Connection Flavor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564560"/>
            <a:ext cx="647712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MS Mincho"/>
              </a:rPr>
              <a:t>Chuck Eastman, driven by John Manu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  <a:ea typeface="MS Mincho"/>
              </a:rPr>
              <a:t>how to associate fabrication-level detail information to a connection, based on the practices of the fabricator and/or engineering fir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lavorslide1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691240" cy="4762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9480" y="379800"/>
            <a:ext cx="73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Logical structure of a connection and its attribu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51040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334120" y="4800240"/>
            <a:ext cx="213336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4570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4952880"/>
            <a:ext cx="457200" cy="38124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onectionflavorslide2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4332240" cy="4522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0880" y="222372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Reference to the ite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2590920"/>
            <a:ext cx="609480" cy="2286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260460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Connection flavor library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477120" y="2971800"/>
            <a:ext cx="4572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82880" y="37980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Associating the connection to the flavor libra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1066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Parent of assembly_design_ structural_connection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952520" y="1371600"/>
            <a:ext cx="762120" cy="5335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0480" y="19800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Joint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362320"/>
            <a:ext cx="58672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5019840" cy="2884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05120" y="2286000"/>
            <a:ext cx="457200" cy="83808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009920" y="2438280"/>
            <a:ext cx="6858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1903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ogical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37324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10280" y="3352320"/>
            <a:ext cx="53352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76520" y="1905120"/>
            <a:ext cx="58672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8" name="flavorslide3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187960" cy="1739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86000" y="2819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62320" y="2971800"/>
            <a:ext cx="380880" cy="17524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6468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specif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7689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instance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705720" y="2742840"/>
            <a:ext cx="304560" cy="2133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3:40:57Z</dcterms:created>
  <dc:creator>Eastman</dc:creator>
  <dc:description/>
  <dc:language>en-US</dc:language>
  <cp:lastModifiedBy>CHUCK</cp:lastModifiedBy>
  <dcterms:modified xsi:type="dcterms:W3CDTF">2001-11-02T08:37:56Z</dcterms:modified>
  <cp:revision>5</cp:revision>
  <dc:subject/>
  <dc:title>No Slide Title</dc:title>
</cp:coreProperties>
</file>