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39D4B-C140-4F05-8C31-1B29488E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64CAF-99D3-4D06-9234-79F07A36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16B51-FD9D-4A84-B1AD-F386B944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BED83-33AC-4F2F-B073-80473EAB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12233-E79C-4DF3-931B-B7FB4EE0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90AD1-3BEE-4C37-829F-B083378A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C2BEF-167A-4E99-9C72-463C7616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E5F72-BD37-43A5-9F8E-2F16001B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891FC-2481-479A-857B-860BEE4C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D04CC-CA33-40AA-ABD1-82C5E8F2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CCC43-D88C-4AD4-929B-6765624F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F4D00-BDA4-4E9D-A442-196CB700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E017-5CB2-4ED7-9EDB-F944BCE55B2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838080" y="2133720"/>
          <a:ext cx="693432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9343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37040" y="303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1840" y="4266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8560" y="434304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4440" y="251424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un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7360" y="12942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epared by Fried Augenbro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9320" y="1981080"/>
          <a:ext cx="2809800" cy="14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981080"/>
                    <a:ext cx="280980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334120" y="4800600"/>
          <a:ext cx="1962000" cy="163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4800600"/>
                    <a:ext cx="19620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33520" y="1293840"/>
            <a:ext cx="6705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1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is from a non-managed ‘upstream’ structural layout actor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the file describes an analysis model of a simple 2D frame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385440"/>
            <a:ext cx="7619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2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the result of three managed data transactions by Organization 1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import of File 1 with a STEP file im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load data with a CIS/2 Data Management Compliant (DMC) application SoftX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2 with managed data using the SoftX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9720" y="357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352680" y="3352680"/>
          <a:ext cx="2028960" cy="138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3352680"/>
                    <a:ext cx="202896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1286640"/>
            <a:ext cx="792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3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contains the result of three managed data transactions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new data: cross-sections of the two columns and the beam. This is done with the DMC application Soft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modifications of the imported analysis model to allow the inclusion of the element cross section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3 with managed data using the SoftY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93640" y="41796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Eastman</cp:lastModifiedBy>
  <dcterms:modified xsi:type="dcterms:W3CDTF">2001-10-31T03:41:38Z</dcterms:modified>
  <cp:revision>5</cp:revision>
  <dc:subject/>
  <dc:title>No Slide Title</dc:title>
</cp:coreProperties>
</file>