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A71E7-9AB0-48A8-8672-846336A9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80D44-46B5-4356-983D-5E13E636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7BBC8-D333-490E-957A-6F1E72E4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1564A-38E5-41E2-BE84-B462C11F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BAC4F-83E0-4E1C-8D3D-3B205600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EA8CE-2180-40A7-85C4-A5E2BBBB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4D083-A36F-4132-B647-63D5A373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F1EBC-1F0A-4701-B224-EFF60D5A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D1683-88CF-46EA-869E-829D9813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C824E-B1F9-4C44-B0FA-31AE85B5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F0E61-38C5-45AA-85B3-49A7F455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16058-EFBE-4C28-81BF-081F17A2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33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5943600"/>
            <a:ext cx="1752840" cy="742680"/>
            <a:chOff x="838080" y="594360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594360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65532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65856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17256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21576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21576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21576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17256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17544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21900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17544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24060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43248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36444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4018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3644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43248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36444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36768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43248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43248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4DC7-C40F-4D3A-90D7-C79946FD84E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02960" y="304200"/>
            <a:ext cx="47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Connection Flavor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564560"/>
            <a:ext cx="647712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MS Mincho"/>
              </a:rPr>
              <a:t>Chuck Eastman, driven by John Manu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  <a:ea typeface="MS Mincho"/>
              </a:rPr>
              <a:t>how to associate fabrication-level detail information to a connection, based on the practices of the fabricator and/or engineering fir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lavorslide1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691240" cy="4762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9480" y="379800"/>
            <a:ext cx="73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Logical structure of a connection and its attribu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51040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334120" y="4800240"/>
            <a:ext cx="213336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457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952880"/>
            <a:ext cx="457200" cy="3812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onectionflavorslide2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4332240" cy="4522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22237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ference to the ite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590920"/>
            <a:ext cx="609480" cy="2286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60460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onnection flavor library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77120" y="2971800"/>
            <a:ext cx="4572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82880" y="37980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Associating the connection to the flavor libra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066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arent of assembly_design_ structural_connection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952520" y="1371600"/>
            <a:ext cx="762120" cy="5335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0480" y="19800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Joint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362320"/>
            <a:ext cx="58672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019840" cy="2884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05120" y="2286000"/>
            <a:ext cx="457200" cy="8380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09920" y="2438280"/>
            <a:ext cx="6858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1903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gical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373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10280" y="3352320"/>
            <a:ext cx="53352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1905120"/>
            <a:ext cx="58672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8" name="flavorslide3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87960" cy="1739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0" y="28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62320" y="2971800"/>
            <a:ext cx="380880" cy="1752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6468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specif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7689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instance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705720" y="2742840"/>
            <a:ext cx="304560" cy="2133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3:40:57Z</dcterms:created>
  <dc:creator>Eastman</dc:creator>
  <dc:description/>
  <dc:language>en-US</dc:language>
  <cp:lastModifiedBy>CHUCK</cp:lastModifiedBy>
  <dcterms:modified xsi:type="dcterms:W3CDTF">2001-11-02T08:37:56Z</dcterms:modified>
  <cp:revision>5</cp:revision>
  <dc:subject/>
  <dc:title>No Slide Title</dc:title>
</cp:coreProperties>
</file>