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4ABF-476C-4869-B35E-D64A925A5C07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the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276720"/>
            <a:ext cx="228600" cy="304560"/>
          </a:xfrm>
          <a:custGeom>
            <a:avLst/>
            <a:gdLst>
              <a:gd name="textAreaLeft" fmla="*/ 0 w 228600"/>
              <a:gd name="textAreaRight" fmla="*/ 82440 w 22860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6576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09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6" idx="3"/>
              <a:endCxn id="109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3"/>
              <a:endCxn id="107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2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3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8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3" idx="2"/>
              <a:endCxn id="114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o online manu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1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long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ration of CC long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, and not sufficiently robust (?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42:49Z</dcterms:modified>
  <cp:revision>45</cp:revision>
  <dc:subject/>
  <dc:title>AISC CIS/2  Workshop #I</dc:title>
</cp:coreProperties>
</file>