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65724-D719-4653-80F3-4CAB799A8893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3 November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IS/2 Workshop 5, Houston, TX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13</a:t>
            </a:r>
            <a:r>
              <a:rPr b="1" lang="en-US" sz="36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Nov 2000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914040" y="2819520"/>
            <a:ext cx="746748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160020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hort Form Schem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shorthand defini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ferences pre-defined elements from existing EXPRESS schem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declarations of TYPES, ENTITIES, FUNC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FROM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FERENCE FRO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STEP toolkit will automatically generate the corresponding “long form” schem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TEP Short to Long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3429000"/>
            <a:ext cx="6094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086600" y="3429000"/>
            <a:ext cx="60948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00400" y="2133720"/>
            <a:ext cx="609480" cy="1295280"/>
          </a:xfrm>
          <a:prstGeom prst="rect">
            <a:avLst/>
          </a:prstGeom>
          <a:solidFill>
            <a:srgbClr val="ffff66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14800" y="2133720"/>
            <a:ext cx="609480" cy="1295280"/>
          </a:xfrm>
          <a:prstGeom prst="rect">
            <a:avLst/>
          </a:prstGeom>
          <a:solidFill>
            <a:srgbClr val="ffff66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952880" y="2133720"/>
            <a:ext cx="609840" cy="1295280"/>
          </a:xfrm>
          <a:prstGeom prst="rect">
            <a:avLst/>
          </a:prstGeom>
          <a:solidFill>
            <a:srgbClr val="ffff66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09680" y="4114800"/>
            <a:ext cx="46483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05320" y="3581280"/>
            <a:ext cx="380880" cy="6098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19720" y="3581280"/>
            <a:ext cx="428400" cy="6858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257800" y="3581280"/>
            <a:ext cx="523800" cy="8384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32600" y="4952880"/>
            <a:ext cx="194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ort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specifi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0920" y="5029200"/>
            <a:ext cx="228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ng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implement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715720" y="228600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C Short to Long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371600" y="3429000"/>
            <a:ext cx="6094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86600" y="3429000"/>
            <a:ext cx="60948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1676520"/>
            <a:ext cx="2209680" cy="1752480"/>
          </a:xfrm>
          <a:prstGeom prst="rect">
            <a:avLst/>
          </a:prstGeom>
          <a:solidFill>
            <a:srgbClr val="ffff66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LPM/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(implement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52880" y="2133720"/>
            <a:ext cx="609840" cy="1295280"/>
          </a:xfrm>
          <a:prstGeom prst="rect">
            <a:avLst/>
          </a:prstGeom>
          <a:solidFill>
            <a:srgbClr val="ffff66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09680" y="4114800"/>
            <a:ext cx="46483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05320" y="3581280"/>
            <a:ext cx="380880" cy="609840"/>
          </a:xfrm>
          <a:prstGeom prst="line">
            <a:avLst/>
          </a:prstGeom>
          <a:ln w="38160">
            <a:solidFill>
              <a:srgbClr val="cc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57800" y="3581280"/>
            <a:ext cx="523800" cy="838440"/>
          </a:xfrm>
          <a:prstGeom prst="line">
            <a:avLst/>
          </a:prstGeom>
          <a:ln w="38160">
            <a:solidFill>
              <a:srgbClr val="cc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4280" y="4952880"/>
            <a:ext cx="206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C Short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specifi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52800" y="5181480"/>
            <a:ext cx="20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C Long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test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716080" y="228600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C Short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hort Form for CC001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5120" y="914400"/>
            <a:ext cx="8634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HEMA LPM5_CC001;  -- date_and_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SE FROM STRUCTURAL_FRAME_SCHEMA (date_and_time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-- Base Entity - frequently used in other C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FERENCE FROM STRUCTURAL_FRAME_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alendar_dat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ordinated_universal_time_offse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at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ocal_tim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hort Form for CC001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52280" y="1143000"/>
            <a:ext cx="868680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ERENCE FROM STRUCTURAL_FRAME_SCHEMA ahead_or_behin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y_in_month_numb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ur_in_da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nute_in_hou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nth_in_year_numb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_in_minut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ear_numb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ERENCE FROM STRUCTURAL_FRAME_SCHEMA leap_yea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lid_calendar_dat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lid_tim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D_SCHEM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ong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enerated from the short form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ing a STEP toolk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panded schema resul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ecific to that C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ther types or entities may be pulled i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LECTS may also be pulled i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Numbering of CC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C001 - CC035 …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ommon Resourc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C100 …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MC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C101 …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vanced DMC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C102 - CC339 …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pecific CC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us, a given translator might support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C104, CC123, CC223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particular CCC is denot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CC201+CC203)”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us, a given translator might support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C105, (CC201+CC203)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066680" y="2362320"/>
            <a:ext cx="3657600" cy="2895480"/>
          </a:xfrm>
          <a:prstGeom prst="cloudCallout">
            <a:avLst>
              <a:gd name="adj1" fmla="val 37717"/>
              <a:gd name="adj2" fmla="val -149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19320" y="3276720"/>
            <a:ext cx="3200400" cy="1752480"/>
          </a:xfrm>
          <a:prstGeom prst="cloudCallout">
            <a:avLst>
              <a:gd name="adj1" fmla="val -23462"/>
              <a:gd name="adj2" fmla="val 3713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ranslator Scope - Expor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791320" y="2179800"/>
            <a:ext cx="2514600" cy="1191240"/>
          </a:xfrm>
          <a:prstGeom prst="borderCallout2">
            <a:avLst>
              <a:gd name="adj1" fmla="val 18750"/>
              <a:gd name="adj2" fmla="val -8333"/>
              <a:gd name="adj3" fmla="val 9328"/>
              <a:gd name="adj4" fmla="val -13953"/>
              <a:gd name="adj5" fmla="val 57972"/>
              <a:gd name="adj6" fmla="val -57370"/>
            </a:avLst>
          </a:prstGeom>
          <a:solidFill>
            <a:srgbClr val="ffffff"/>
          </a:solidFill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information scope of the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0" y="2895480"/>
            <a:ext cx="1752480" cy="1752840"/>
          </a:xfrm>
          <a:prstGeom prst="ellipse">
            <a:avLst/>
          </a:prstGeom>
          <a:solidFill>
            <a:srgbClr val="ffff66"/>
          </a:solidFill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91320" y="3889440"/>
            <a:ext cx="2514600" cy="825480"/>
          </a:xfrm>
          <a:prstGeom prst="borderCallout2">
            <a:avLst>
              <a:gd name="adj1" fmla="val 18750"/>
              <a:gd name="adj2" fmla="val -8333"/>
              <a:gd name="adj3" fmla="val 13282"/>
              <a:gd name="adj4" fmla="val -17740"/>
              <a:gd name="adj5" fmla="val -24930"/>
              <a:gd name="adj6" fmla="val -69180"/>
            </a:avLst>
          </a:prstGeom>
          <a:solidFill>
            <a:srgbClr val="ffff66"/>
          </a:solidFill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CCC 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rans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71800" y="3200400"/>
            <a:ext cx="990720" cy="990720"/>
          </a:xfrm>
          <a:prstGeom prst="ellipse">
            <a:avLst/>
          </a:prstGeom>
          <a:noFill/>
          <a:ln w="2844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362320" y="3200400"/>
            <a:ext cx="990360" cy="990720"/>
          </a:xfrm>
          <a:prstGeom prst="ellipse">
            <a:avLst/>
          </a:prstGeom>
          <a:noFill/>
          <a:ln w="2844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590920" y="3352680"/>
            <a:ext cx="1295280" cy="129564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19520" y="3657600"/>
            <a:ext cx="914400" cy="91440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81280" y="5105520"/>
            <a:ext cx="2514600" cy="825480"/>
          </a:xfrm>
          <a:prstGeom prst="borderCallout2">
            <a:avLst>
              <a:gd name="adj1" fmla="val 18750"/>
              <a:gd name="adj2" fmla="val -8333"/>
              <a:gd name="adj3" fmla="val 13282"/>
              <a:gd name="adj4" fmla="val -14268"/>
              <a:gd name="adj5" fmla="val -61462"/>
              <a:gd name="adj6" fmla="val -54032"/>
            </a:avLst>
          </a:prstGeom>
          <a:solidFill>
            <a:srgbClr val="000000"/>
          </a:solidFill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t populated information 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09880" y="1295280"/>
            <a:ext cx="464832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4884"/>
              <a:gd name="adj5" fmla="val 451407"/>
              <a:gd name="adj6" fmla="val -16560"/>
            </a:avLst>
          </a:prstGeom>
          <a:solidFill>
            <a:srgbClr val="ffffff"/>
          </a:solidFill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pulated lesser (supported) CC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57200" y="1981080"/>
            <a:ext cx="3809880" cy="38102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81080" y="3048120"/>
            <a:ext cx="2895840" cy="2895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ranslator Scope - Impor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066680" y="2666880"/>
            <a:ext cx="3657600" cy="2895840"/>
          </a:xfrm>
          <a:prstGeom prst="cloudCallout">
            <a:avLst>
              <a:gd name="adj1" fmla="val -26777"/>
              <a:gd name="adj2" fmla="val 4221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791320" y="2560680"/>
            <a:ext cx="2514600" cy="1191240"/>
          </a:xfrm>
          <a:prstGeom prst="borderCallout2">
            <a:avLst>
              <a:gd name="adj1" fmla="val 18750"/>
              <a:gd name="adj2" fmla="val -8333"/>
              <a:gd name="adj3" fmla="val 9328"/>
              <a:gd name="adj4" fmla="val -13888"/>
              <a:gd name="adj5" fmla="val 49453"/>
              <a:gd name="adj6" fmla="val -52013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information scope of the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91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solidFill>
              <a:srgbClr val="ffff66"/>
            </a:solidFill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66"/>
            </a:solidFill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CCC scope of import transla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5562720" y="5486400"/>
            <a:ext cx="33526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17472"/>
              <a:gd name="adj5" fmla="val 17291"/>
              <a:gd name="adj6" fmla="val -33236"/>
            </a:avLst>
          </a:prstGeom>
          <a:solidFill>
            <a:srgbClr val="000000"/>
          </a:solidFill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Times New Roman"/>
              </a:rPr>
              <a:t>Populated greater CC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nformance Cla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rm borrowed from ISO10303 (STEP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ach CC a logical subset of LPM/5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d for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pecifying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ranslator scop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d for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esting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ranslator compli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Cs have hard boundari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 entities within must be supported in full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nformance Cla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CIS/2 documentation pre-defines 275 modular CC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ach is focused on a different base entit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rting point for defining a C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ther entities where pulled-in thu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lnSpc>
                <a:spcPct val="110000"/>
              </a:lnSpc>
              <a:spcBef>
                <a:spcPts val="675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tities it references direct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lnSpc>
                <a:spcPct val="110000"/>
              </a:lnSpc>
              <a:spcBef>
                <a:spcPts val="675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tities that must point at 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fines those CCs that are most likely to be need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ly selected bases enti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C Combina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ach CC is designed to be minima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small coherent building block within a much larger LPM/5 </a:t>
            </a:r>
            <a:r>
              <a:rPr b="1" i="1" lang="en-US" sz="2400" spc="-1" strike="noStrike">
                <a:solidFill>
                  <a:srgbClr val="00cc99"/>
                </a:solidFill>
                <a:latin typeface="Arial"/>
              </a:rPr>
              <a:t>(atom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legitimate set of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 necessarily a meaningful set of dat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Cs can be used individually or in combination </a:t>
            </a:r>
            <a:r>
              <a:rPr b="1" i="1" lang="en-US" sz="2800" spc="-1" strike="noStrike">
                <a:solidFill>
                  <a:srgbClr val="00cc99"/>
                </a:solidFill>
                <a:latin typeface="Arial"/>
              </a:rPr>
              <a:t>(molecules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 which CC Combinations to us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593720" y="1574640"/>
            <a:ext cx="6951600" cy="4495680"/>
            <a:chOff x="1593720" y="1574640"/>
            <a:chExt cx="6951600" cy="4495680"/>
          </a:xfrm>
        </p:grpSpPr>
        <p:sp>
          <p:nvSpPr>
            <p:cNvPr id="95" name=""/>
            <p:cNvSpPr/>
            <p:nvPr/>
          </p:nvSpPr>
          <p:spPr>
            <a:xfrm>
              <a:off x="4049280" y="1650960"/>
              <a:ext cx="4496040" cy="22096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593720" y="1574640"/>
              <a:ext cx="5943600" cy="4495680"/>
              <a:chOff x="1593720" y="1574640"/>
              <a:chExt cx="5943600" cy="4495680"/>
            </a:xfrm>
          </p:grpSpPr>
          <p:sp>
            <p:nvSpPr>
              <p:cNvPr id="97" name=""/>
              <p:cNvSpPr/>
              <p:nvPr/>
            </p:nvSpPr>
            <p:spPr>
              <a:xfrm>
                <a:off x="4870080" y="2031840"/>
                <a:ext cx="2667240" cy="1523880"/>
              </a:xfrm>
              <a:prstGeom prst="roundRect">
                <a:avLst>
                  <a:gd name="adj" fmla="val 16667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5400000">
                <a:off x="2202840" y="3174840"/>
                <a:ext cx="1066680" cy="1219320"/>
              </a:xfrm>
              <a:custGeom>
                <a:avLst/>
                <a:gdLst>
                  <a:gd name="textAreaLeft" fmla="*/ 51840 w 1066680"/>
                  <a:gd name="textAreaRight" fmla="*/ 1014840 w 1066680"/>
                  <a:gd name="textAreaTop" fmla="*/ 51840 h 1219320"/>
                  <a:gd name="textAreaBottom" fmla="*/ 1167480 h 1219320"/>
                </a:gdLst>
                <a:ahLst/>
                <a:rect l="textAreaLeft" t="textAreaTop" r="textAreaRight" b="textAreaBottom"/>
                <a:pathLst>
                  <a:path w="21600" h="24690">
                    <a:moveTo>
                      <a:pt x="3600" y="0"/>
                    </a:moveTo>
                    <a:arcTo wR="3600" hR="3600" stAng="16200000" swAng="-5400000"/>
                    <a:lnTo>
                      <a:pt x="0" y="21090"/>
                    </a:lnTo>
                    <a:arcTo wR="3600" hR="3600" stAng="10800000" swAng="-5400000"/>
                    <a:lnTo>
                      <a:pt x="18000" y="246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5400000">
                <a:off x="450360" y="2717640"/>
                <a:ext cx="4495680" cy="2209680"/>
              </a:xfrm>
              <a:prstGeom prst="roundRect">
                <a:avLst>
                  <a:gd name="adj" fmla="val 16667"/>
                </a:avLst>
              </a:prstGeom>
              <a:solidFill>
                <a:srgbClr val="ffcc00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0" name=""/>
          <p:cNvSpPr/>
          <p:nvPr/>
        </p:nvSpPr>
        <p:spPr>
          <a:xfrm>
            <a:off x="233280" y="3391920"/>
            <a:ext cx="1776600" cy="1483920"/>
          </a:xfrm>
          <a:prstGeom prst="wedgeRoundRectCallout">
            <a:avLst>
              <a:gd name="adj1" fmla="val 55263"/>
              <a:gd name="adj2" fmla="val -80972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0086"/>
                </a:solidFill>
                <a:latin typeface="Times New Roman"/>
              </a:rPr>
              <a:t>Potential data scop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0086"/>
                </a:solidFill>
                <a:latin typeface="Times New Roman"/>
              </a:rPr>
              <a:t>importing application</a:t>
            </a: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032600" y="4622760"/>
            <a:ext cx="1762200" cy="1418400"/>
          </a:xfrm>
          <a:prstGeom prst="wedgeRoundRectCallout">
            <a:avLst>
              <a:gd name="adj1" fmla="val -17587"/>
              <a:gd name="adj2" fmla="val -77731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0086"/>
                </a:solidFill>
                <a:latin typeface="Times New Roman"/>
              </a:rPr>
              <a:t>Potential data scope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0086"/>
                </a:solidFill>
                <a:latin typeface="Times New Roman"/>
              </a:rPr>
              <a:t>exporting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00400" y="4858560"/>
            <a:ext cx="2097360" cy="759960"/>
          </a:xfrm>
          <a:prstGeom prst="wedgeRoundRectCallout">
            <a:avLst>
              <a:gd name="adj1" fmla="val -34111"/>
              <a:gd name="adj2" fmla="val -160888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0086"/>
                </a:solidFill>
                <a:latin typeface="Times New Roman"/>
              </a:rPr>
              <a:t>exchang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21120" y="2665440"/>
            <a:ext cx="1542960" cy="842760"/>
          </a:xfrm>
          <a:prstGeom prst="cloudCallout">
            <a:avLst>
              <a:gd name="adj1" fmla="val -6069"/>
              <a:gd name="adj2" fmla="val 593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800cc"/>
                </a:solidFill>
                <a:latin typeface="Times New Roman"/>
              </a:rPr>
              <a:t>Neu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7316640" y="885960"/>
            <a:ext cx="1408320" cy="903240"/>
          </a:xfrm>
          <a:prstGeom prst="cloudCallout">
            <a:avLst>
              <a:gd name="adj1" fmla="val -10541"/>
              <a:gd name="adj2" fmla="val -817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47680" y="1521000"/>
            <a:ext cx="1425600" cy="973080"/>
          </a:xfrm>
          <a:prstGeom prst="cloudCallout">
            <a:avLst>
              <a:gd name="adj1" fmla="val 222"/>
              <a:gd name="adj2" fmla="val 334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cope of Data Exchang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2760" y="1957320"/>
            <a:ext cx="1955880" cy="169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Translato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0960" y="4073400"/>
            <a:ext cx="1940040" cy="1694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Translator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56240" y="3049560"/>
            <a:ext cx="1957680" cy="169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Translator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21320" y="1125360"/>
            <a:ext cx="1976400" cy="1694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Translato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57440" y="950760"/>
            <a:ext cx="1730520" cy="513252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LPM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22640" y="365292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22640" y="197640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05000" y="407664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05000" y="575316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22880" y="114768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40160" y="2790720"/>
            <a:ext cx="11653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21440" y="473076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21440" y="307188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205000" y="1957320"/>
            <a:ext cx="4199040" cy="847800"/>
            <a:chOff x="2205000" y="1957320"/>
            <a:chExt cx="4199040" cy="847800"/>
          </a:xfrm>
        </p:grpSpPr>
        <p:sp>
          <p:nvSpPr>
            <p:cNvPr id="121" name=""/>
            <p:cNvSpPr/>
            <p:nvPr/>
          </p:nvSpPr>
          <p:spPr>
            <a:xfrm>
              <a:off x="2205000" y="1957320"/>
              <a:ext cx="4199040" cy="830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873520" y="197496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2224080" y="2944800"/>
            <a:ext cx="4199040" cy="830160"/>
            <a:chOff x="2224080" y="2944800"/>
            <a:chExt cx="4199040" cy="830160"/>
          </a:xfrm>
        </p:grpSpPr>
        <p:sp>
          <p:nvSpPr>
            <p:cNvPr id="124" name=""/>
            <p:cNvSpPr/>
            <p:nvPr/>
          </p:nvSpPr>
          <p:spPr>
            <a:xfrm>
              <a:off x="2224080" y="3070080"/>
              <a:ext cx="4199040" cy="619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873520" y="294480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2205000" y="3986280"/>
            <a:ext cx="4199040" cy="830160"/>
            <a:chOff x="2205000" y="3986280"/>
            <a:chExt cx="4199040" cy="830160"/>
          </a:xfrm>
        </p:grpSpPr>
        <p:sp>
          <p:nvSpPr>
            <p:cNvPr id="127" name=""/>
            <p:cNvSpPr/>
            <p:nvPr/>
          </p:nvSpPr>
          <p:spPr>
            <a:xfrm>
              <a:off x="2205000" y="4075200"/>
              <a:ext cx="4199040" cy="6541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73520" y="398628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ntities in a CC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52280" y="685800"/>
          <a:ext cx="894420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85800"/>
                    <a:ext cx="89442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1904760" y="5715000"/>
            <a:ext cx="567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1 = entities A1+A11+A111+B1+B11+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ntities in a CC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88920" y="838080"/>
          <a:ext cx="8996400" cy="519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838080"/>
                    <a:ext cx="8996400" cy="51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2284920" y="5410080"/>
            <a:ext cx="41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2 = entities B1+B12+D1+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ard Boundar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05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overall scope of a particular translator corresponds to a particular CCC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05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rrectly translate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al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data within that valid sub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lnSpc>
                <a:spcPct val="105000"/>
              </a:lnSpc>
              <a:spcBef>
                <a:spcPts val="675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very entity, an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lnSpc>
                <a:spcPct val="105000"/>
              </a:lnSpc>
              <a:spcBef>
                <a:spcPts val="675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very (non OPTIONAL) attribut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lnSpc>
                <a:spcPct val="105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ranslator may provide user control for exporting or importing lesser CCC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3T14:59:35Z</dcterms:created>
  <dc:creator>Andrew Crowley</dc:creator>
  <dc:description/>
  <dc:language>en-US</dc:language>
  <cp:lastModifiedBy>Andrew Crowley</cp:lastModifiedBy>
  <dcterms:modified xsi:type="dcterms:W3CDTF">2000-11-14T14:55:29Z</dcterms:modified>
  <cp:revision>8</cp:revision>
  <dc:subject/>
  <dc:title>CIS/2 Workshop 5, Houston, TX 13th Nov 2000</dc:title>
</cp:coreProperties>
</file>