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86800" cy="962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1"/>
          </p:nvPr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lstStyle>
            <a:lvl1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2"/>
          </p:nvPr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marL="216000"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3"/>
          </p:nvPr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D6176F28-945D-4F43-9788-1E0FC0C63C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F5B5808D-9602-474F-A000-E660832978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body"/>
          </p:nvPr>
        </p:nvSpPr>
        <p:spPr>
          <a:xfrm>
            <a:off x="631440" y="4824360"/>
            <a:ext cx="565308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ldImg"/>
          </p:nvPr>
        </p:nvSpPr>
        <p:spPr>
          <a:xfrm>
            <a:off x="752400" y="465120"/>
            <a:ext cx="5440320" cy="40798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6D2F9656-3925-4215-8C30-EA6F20B5ED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body"/>
          </p:nvPr>
        </p:nvSpPr>
        <p:spPr>
          <a:xfrm>
            <a:off x="631440" y="4824360"/>
            <a:ext cx="565308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ldImg"/>
          </p:nvPr>
        </p:nvSpPr>
        <p:spPr>
          <a:xfrm>
            <a:off x="752400" y="465120"/>
            <a:ext cx="5440320" cy="40798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47BC3180-96C7-4116-9B60-CC70C75591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body"/>
          </p:nvPr>
        </p:nvSpPr>
        <p:spPr>
          <a:xfrm>
            <a:off x="631440" y="4824360"/>
            <a:ext cx="565308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ldImg"/>
          </p:nvPr>
        </p:nvSpPr>
        <p:spPr>
          <a:xfrm>
            <a:off x="752400" y="465120"/>
            <a:ext cx="5440320" cy="40798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EC6BBADE-5BC5-4B92-A7A2-374A365A26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body"/>
          </p:nvPr>
        </p:nvSpPr>
        <p:spPr>
          <a:xfrm>
            <a:off x="631440" y="4824360"/>
            <a:ext cx="565308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ldImg"/>
          </p:nvPr>
        </p:nvSpPr>
        <p:spPr>
          <a:xfrm>
            <a:off x="752400" y="465120"/>
            <a:ext cx="5440320" cy="40798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D8AE95B1-ADC8-42BF-8E80-BD4CF1DCE1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body"/>
          </p:nvPr>
        </p:nvSpPr>
        <p:spPr>
          <a:xfrm>
            <a:off x="631440" y="4824360"/>
            <a:ext cx="565308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sldImg"/>
          </p:nvPr>
        </p:nvSpPr>
        <p:spPr>
          <a:xfrm>
            <a:off x="752400" y="465120"/>
            <a:ext cx="5440320" cy="40798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2CCE5E1A-EB5D-4DA3-BD46-D1F2AFED7F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body"/>
          </p:nvPr>
        </p:nvSpPr>
        <p:spPr>
          <a:xfrm>
            <a:off x="631440" y="4824360"/>
            <a:ext cx="565308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ldImg"/>
          </p:nvPr>
        </p:nvSpPr>
        <p:spPr>
          <a:xfrm>
            <a:off x="752400" y="465120"/>
            <a:ext cx="5440320" cy="40798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1CDE39D4-F07D-47EE-9BB5-493B421055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body"/>
          </p:nvPr>
        </p:nvSpPr>
        <p:spPr>
          <a:xfrm>
            <a:off x="631440" y="4824360"/>
            <a:ext cx="565308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ldImg"/>
          </p:nvPr>
        </p:nvSpPr>
        <p:spPr>
          <a:xfrm>
            <a:off x="752400" y="465120"/>
            <a:ext cx="5440320" cy="40798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6393484A-6F61-4FC8-A987-9604108BE5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body"/>
          </p:nvPr>
        </p:nvSpPr>
        <p:spPr>
          <a:xfrm>
            <a:off x="631440" y="4824360"/>
            <a:ext cx="5653080" cy="4083120"/>
          </a:xfrm>
          <a:prstGeom prst="rect">
            <a:avLst/>
          </a:prstGeom>
          <a:noFill/>
          <a:ln w="0">
            <a:noFill/>
          </a:ln>
        </p:spPr>
        <p:txBody>
          <a:bodyPr lIns="93240" rIns="93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 domain rule is asserted when the expression evaluates to TRUE; and is violated when the expression evaluates to FAL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ldImg"/>
          </p:nvPr>
        </p:nvSpPr>
        <p:spPr>
          <a:xfrm>
            <a:off x="752400" y="465120"/>
            <a:ext cx="5440320" cy="40798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973A371F-A5DB-4DCD-BFF4-22C034119E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body"/>
          </p:nvPr>
        </p:nvSpPr>
        <p:spPr>
          <a:xfrm>
            <a:off x="631440" y="4824360"/>
            <a:ext cx="5653080" cy="4083120"/>
          </a:xfrm>
          <a:prstGeom prst="rect">
            <a:avLst/>
          </a:prstGeom>
          <a:noFill/>
          <a:ln w="0">
            <a:noFill/>
          </a:ln>
        </p:spPr>
        <p:txBody>
          <a:bodyPr lIns="93240" rIns="93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ince the subtype is a more specific kind of its supertype, every instance of a subtype is an instance of its supertype(s).  An entity is a subtype if, and only if, it contains a subtype clause.  A subtype entity inherits the attributes of the more general entities occurring above it in the subtype/supertype hierarch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ldImg"/>
          </p:nvPr>
        </p:nvSpPr>
        <p:spPr>
          <a:xfrm>
            <a:off x="752400" y="465120"/>
            <a:ext cx="5440320" cy="40798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8C4C7F83-20AB-441E-A124-9F1211A88C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body"/>
          </p:nvPr>
        </p:nvSpPr>
        <p:spPr>
          <a:xfrm>
            <a:off x="631440" y="4824360"/>
            <a:ext cx="565308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ldImg"/>
          </p:nvPr>
        </p:nvSpPr>
        <p:spPr>
          <a:xfrm>
            <a:off x="752400" y="465120"/>
            <a:ext cx="5440320" cy="407988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85723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5840" y="3833640"/>
            <a:ext cx="85723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8560" y="127620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85840" y="383364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8560" y="383364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27601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84200" y="1276200"/>
            <a:ext cx="27601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82920" y="1276200"/>
            <a:ext cx="27601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85840" y="3833640"/>
            <a:ext cx="27601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84200" y="3833640"/>
            <a:ext cx="27601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82920" y="3833640"/>
            <a:ext cx="27601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85840" y="12762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418320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560" y="1276200"/>
            <a:ext cx="418320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534160" cy="34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560" y="1276200"/>
            <a:ext cx="418320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85840" y="383364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85840" y="12762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418320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560" y="127620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560" y="383364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560" y="127620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85840" y="3833640"/>
            <a:ext cx="85723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85723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85840" y="3833640"/>
            <a:ext cx="85723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560" y="127620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85840" y="383364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560" y="383364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27601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4200" y="1276200"/>
            <a:ext cx="27601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2920" y="1276200"/>
            <a:ext cx="27601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85840" y="3833640"/>
            <a:ext cx="27601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4200" y="3833640"/>
            <a:ext cx="27601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2920" y="3833640"/>
            <a:ext cx="27601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418320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8560" y="1276200"/>
            <a:ext cx="418320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534160" cy="34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8560" y="1276200"/>
            <a:ext cx="418320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85840" y="383364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418320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8560" y="127620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8560" y="383364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8560" y="127620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85840" y="3833640"/>
            <a:ext cx="85723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85840" y="12762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700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14680" indent="-38124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90600" indent="-2854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90600" indent="-2854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90600" indent="-2854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04920" y="6324480"/>
            <a:ext cx="7391160" cy="763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Logo" descr=""/>
          <p:cNvPicPr/>
          <p:nvPr/>
        </p:nvPicPr>
        <p:blipFill>
          <a:blip r:embed="rId3"/>
          <a:stretch/>
        </p:blipFill>
        <p:spPr>
          <a:xfrm>
            <a:off x="7848720" y="6019920"/>
            <a:ext cx="1066680" cy="69840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8763120" y="6518160"/>
            <a:ext cx="3808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2A53D-C258-4ACB-9E33-8E83F60DF621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6478560"/>
            <a:ext cx="12193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June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124080" y="6554880"/>
            <a:ext cx="28958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04920" y="1009800"/>
            <a:ext cx="853416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19044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62120" algn="ctr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3" marL="1333440" algn="ctr"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76320" algn="ctr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7632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7632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2936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ISC CIS/2 Technical Workshop 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22-25 June 1999, Californi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03200" y="4892760"/>
            <a:ext cx="7238880" cy="1762200"/>
            <a:chOff x="403200" y="4892760"/>
            <a:chExt cx="7238880" cy="1762200"/>
          </a:xfrm>
        </p:grpSpPr>
        <p:graphicFrame>
          <p:nvGraphicFramePr>
            <p:cNvPr id="91" name=""/>
            <p:cNvGraphicFramePr/>
            <p:nvPr/>
          </p:nvGraphicFramePr>
          <p:xfrm>
            <a:off x="403200" y="5000760"/>
            <a:ext cx="7238880" cy="16542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9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03200" y="5000760"/>
                      <a:ext cx="7238880" cy="1654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3" name=""/>
            <p:cNvSpPr/>
            <p:nvPr/>
          </p:nvSpPr>
          <p:spPr>
            <a:xfrm>
              <a:off x="3230640" y="4892760"/>
              <a:ext cx="3429000" cy="6098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33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00"/>
                  </a:solidFill>
                  <a:latin typeface="Arial"/>
                </a:rPr>
                <a:t>Dr A.J. Crowle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44520" y="10875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45960" y="46911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0" y="1866960"/>
            <a:ext cx="9144000" cy="27050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3300"/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0.2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ISO 10303-11: 1994</a:t>
            </a:r>
            <a:br>
              <a:rPr sz="4400"/>
            </a:b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An Introduction to the EXPRESS Data Definition Language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Main Features of EXPRES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containing structure - SCHEM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definition of objects - ENTITI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attributes of the objects - TYP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onstraints on the object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WHERE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INVERSE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DERIVE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UNIQUE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FUNCTIONs,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Global RULEs,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PRESS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72960" indent="-3729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n EXPRESS every value (attribute, local variable or formal parameter) has an associated data type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72960" indent="-3729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ypes can be classified as either: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) SIMPLE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2) NAMED,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) ENTITY TYPE, or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199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b) DEFINED TYPE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1" marL="57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3) AGGREGATION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4) CONSTRU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) ENUMERATION, or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199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b) SELECT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1.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imple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imple data types are the basic types provided by the EXPRESS language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NUMBER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REAL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TEGER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TRING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BOOLEAN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LOGICAL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BINARY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2a.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NTITY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66400" y="1257480"/>
            <a:ext cx="8496360" cy="45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n ENTITY data type used to establish a relationship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group_relationship;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name : label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description : text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relating_group :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group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related_group :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group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group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group_name : label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group_description : text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662360" y="2682720"/>
            <a:ext cx="4042080" cy="28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The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group_relationship</a:t>
            </a: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 entity has two attributes named having the data type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group</a:t>
            </a: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This effectively relates the group_relationship with two group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and hence relates two groups to each oth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2b. DEFINED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305920" cy="5143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xample of a DEFINED data type declared by a TYPE assigned by the modeller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TYPE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identifier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= STRING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TYPE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TYPE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label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= STRING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TYPE;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TYPE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ext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= STRING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TYPE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954000" y="5487840"/>
            <a:ext cx="704556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1" marL="4572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The attributes named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id, name</a:t>
            </a: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, and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description</a:t>
            </a: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 are all STRINGs.  However, the use of the defined data types help to clarify the meaning and context of the STRING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555360" y="2400480"/>
            <a:ext cx="5685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organization 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id : OPTIONAL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identifier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name :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label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description :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ext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UN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UR1 : id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61800" y="306360"/>
            <a:ext cx="8305920" cy="63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3.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ggregation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66760" y="1238040"/>
            <a:ext cx="83246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ggregation types are used to represent ordered or unordered collections of elements of some basic type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620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620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assembly_design_structural_connection_internal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620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SUBTYPE OF (assembly_design_structural_connection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620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connected_members :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ET [2:?] OF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620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ssembly_design_structural_member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620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716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GGREGATION data types may be either: ARRAY, BAG, LIST, or SET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24000" y="304560"/>
            <a:ext cx="8286480" cy="89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4a.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numeration Data Typ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23640" y="1294920"/>
            <a:ext cx="8248680" cy="448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69360" indent="-369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n enumeration data type is an ordered set of values represented by names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31240" indent="-2768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values of the enumeration type are designated by enumeration_ids and are referred to as enumeration items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31240" indent="-2768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ach enumeration item belongs only to the data type which defines it and must be unique within that type definition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931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2931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TYPE action_source_accidential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2931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= ENUMERATION OF (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fire, impulse, impact, undefined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2931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TYPE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59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4b.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elect Data Typ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66760" y="1219320"/>
            <a:ext cx="847728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76920" indent="-37692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 select data type defines a named collection of other types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42840" indent="-37692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is collection is called the select list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42840" indent="-37692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n instance of a select data type is an instance of one of the types specified in the type list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14440" indent="-28296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This allows an attribute or variable to be one of several types.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1" marL="942840" indent="-37692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the type of an attribute is a select type, then it is defined to be one of the types in the select list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14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414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TYPE assembly_component_select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414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= SELECT (assembly_manufacturing_child, located_part, located_feature, located_joint_system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414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TYPE;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515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omain Rul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62080"/>
            <a:ext cx="84772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76920" indent="-37692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omain rules specify constraints that restrict a defined data type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42840" indent="-37692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omain rules follow the WHERE keyword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14440" indent="-28296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00"/>
                </a:solidFill>
                <a:latin typeface="Arial"/>
              </a:rPr>
              <a:t>Each domain rule evaluates to a logical (TRUE, FALSE, UNKNOWN) value.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41444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414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TYPE length_measure = REAL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414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TYPE; -- STEP Part 41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414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414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TYPE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positive_length_measure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414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= length_measure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414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WHERE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414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WR41T1 : SELF &gt; 0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414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TYPE; -- STEP Part 41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54760" y="4549680"/>
            <a:ext cx="4012920" cy="15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1" marL="4572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Any attribute, local variable or formal parameter declared to be of type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positive_length_measure</a:t>
            </a: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 is constrained to have only positive valu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85840" y="304560"/>
            <a:ext cx="8534160" cy="54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upertypes &amp; Sub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47320" y="1217520"/>
            <a:ext cx="8458200" cy="4727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61800" indent="-36180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subtype/supertype structure is the mechanism for specifying classification (or categorization) of object types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4475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assembly </a:t>
            </a:r>
            <a:br>
              <a:rPr sz="1800"/>
            </a:b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BSTRACT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UPERTYPE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OF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475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(ONEOF (assembly_design, assembly_manufactu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475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NDOR assembly_with_shape)</a:t>
            </a:r>
            <a:br>
              <a:rPr sz="1800"/>
            </a:b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UBTYPE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OF (structural_frame_product);</a:t>
            </a:r>
            <a:br>
              <a:rPr sz="1800"/>
            </a:b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ssembly_sequence_number : OPTIONAL INTEGER;</a:t>
            </a:r>
            <a:br>
              <a:rPr sz="1800"/>
            </a:b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complexity : OPTIONAL complexity_level;</a:t>
            </a:r>
            <a:br>
              <a:rPr sz="1800"/>
            </a:b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1800" indent="-36180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Arial"/>
              </a:rPr>
              <a:t>A subtype 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inherits</a:t>
            </a:r>
            <a:r>
              <a:rPr b="1" i="1" lang="en-GB" sz="2400" spc="-1" strike="noStrike">
                <a:solidFill>
                  <a:srgbClr val="ffff00"/>
                </a:solidFill>
                <a:latin typeface="Arial"/>
              </a:rPr>
              <a:t> all the attributes of its supertype(s)</a:t>
            </a: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23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i="1" lang="en-GB" sz="2000" spc="-1" strike="noStrike">
                <a:solidFill>
                  <a:srgbClr val="ffffff"/>
                </a:solidFill>
                <a:latin typeface="Arial"/>
              </a:rPr>
              <a:t>and the attributes of the supertypes’ supertypes, etc..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479760" y="3395520"/>
            <a:ext cx="233856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3090960" y="2085840"/>
            <a:ext cx="3054240" cy="3346560"/>
            <a:chOff x="3090960" y="2085840"/>
            <a:chExt cx="3054240" cy="3346560"/>
          </a:xfrm>
        </p:grpSpPr>
        <p:sp>
          <p:nvSpPr>
            <p:cNvPr id="100" name=""/>
            <p:cNvSpPr/>
            <p:nvPr/>
          </p:nvSpPr>
          <p:spPr>
            <a:xfrm>
              <a:off x="3090960" y="2085840"/>
              <a:ext cx="3054240" cy="3346560"/>
            </a:xfrm>
            <a:custGeom>
              <a:avLst/>
              <a:gdLst/>
              <a:ahLst/>
              <a:rect l="l" t="t" r="r" b="b"/>
              <a:pathLst>
                <a:path w="1924" h="2108">
                  <a:moveTo>
                    <a:pt x="733" y="440"/>
                  </a:moveTo>
                  <a:lnTo>
                    <a:pt x="752" y="417"/>
                  </a:lnTo>
                  <a:lnTo>
                    <a:pt x="766" y="394"/>
                  </a:lnTo>
                  <a:lnTo>
                    <a:pt x="773" y="369"/>
                  </a:lnTo>
                  <a:lnTo>
                    <a:pt x="773" y="336"/>
                  </a:lnTo>
                  <a:lnTo>
                    <a:pt x="764" y="298"/>
                  </a:lnTo>
                  <a:lnTo>
                    <a:pt x="757" y="267"/>
                  </a:lnTo>
                  <a:lnTo>
                    <a:pt x="746" y="228"/>
                  </a:lnTo>
                  <a:lnTo>
                    <a:pt x="742" y="186"/>
                  </a:lnTo>
                  <a:lnTo>
                    <a:pt x="746" y="160"/>
                  </a:lnTo>
                  <a:lnTo>
                    <a:pt x="754" y="129"/>
                  </a:lnTo>
                  <a:lnTo>
                    <a:pt x="769" y="96"/>
                  </a:lnTo>
                  <a:lnTo>
                    <a:pt x="789" y="64"/>
                  </a:lnTo>
                  <a:lnTo>
                    <a:pt x="816" y="39"/>
                  </a:lnTo>
                  <a:lnTo>
                    <a:pt x="840" y="20"/>
                  </a:lnTo>
                  <a:lnTo>
                    <a:pt x="873" y="8"/>
                  </a:lnTo>
                  <a:lnTo>
                    <a:pt x="912" y="2"/>
                  </a:lnTo>
                  <a:lnTo>
                    <a:pt x="954" y="0"/>
                  </a:lnTo>
                  <a:lnTo>
                    <a:pt x="1011" y="0"/>
                  </a:lnTo>
                  <a:lnTo>
                    <a:pt x="1056" y="5"/>
                  </a:lnTo>
                  <a:lnTo>
                    <a:pt x="1082" y="14"/>
                  </a:lnTo>
                  <a:lnTo>
                    <a:pt x="1101" y="26"/>
                  </a:lnTo>
                  <a:lnTo>
                    <a:pt x="1122" y="39"/>
                  </a:lnTo>
                  <a:lnTo>
                    <a:pt x="1143" y="60"/>
                  </a:lnTo>
                  <a:lnTo>
                    <a:pt x="1163" y="87"/>
                  </a:lnTo>
                  <a:lnTo>
                    <a:pt x="1177" y="111"/>
                  </a:lnTo>
                  <a:lnTo>
                    <a:pt x="1185" y="132"/>
                  </a:lnTo>
                  <a:lnTo>
                    <a:pt x="1191" y="168"/>
                  </a:lnTo>
                  <a:lnTo>
                    <a:pt x="1191" y="199"/>
                  </a:lnTo>
                  <a:lnTo>
                    <a:pt x="1186" y="231"/>
                  </a:lnTo>
                  <a:lnTo>
                    <a:pt x="1180" y="255"/>
                  </a:lnTo>
                  <a:lnTo>
                    <a:pt x="1173" y="294"/>
                  </a:lnTo>
                  <a:lnTo>
                    <a:pt x="1163" y="334"/>
                  </a:lnTo>
                  <a:lnTo>
                    <a:pt x="1158" y="360"/>
                  </a:lnTo>
                  <a:lnTo>
                    <a:pt x="1166" y="385"/>
                  </a:lnTo>
                  <a:lnTo>
                    <a:pt x="1174" y="403"/>
                  </a:lnTo>
                  <a:lnTo>
                    <a:pt x="1191" y="427"/>
                  </a:lnTo>
                  <a:lnTo>
                    <a:pt x="1215" y="446"/>
                  </a:lnTo>
                  <a:lnTo>
                    <a:pt x="1237" y="463"/>
                  </a:lnTo>
                  <a:lnTo>
                    <a:pt x="1270" y="476"/>
                  </a:lnTo>
                  <a:lnTo>
                    <a:pt x="1303" y="485"/>
                  </a:lnTo>
                  <a:lnTo>
                    <a:pt x="1335" y="493"/>
                  </a:lnTo>
                  <a:lnTo>
                    <a:pt x="1368" y="497"/>
                  </a:lnTo>
                  <a:lnTo>
                    <a:pt x="1402" y="506"/>
                  </a:lnTo>
                  <a:lnTo>
                    <a:pt x="1429" y="515"/>
                  </a:lnTo>
                  <a:lnTo>
                    <a:pt x="1450" y="526"/>
                  </a:lnTo>
                  <a:lnTo>
                    <a:pt x="1467" y="538"/>
                  </a:lnTo>
                  <a:lnTo>
                    <a:pt x="1479" y="551"/>
                  </a:lnTo>
                  <a:lnTo>
                    <a:pt x="1488" y="568"/>
                  </a:lnTo>
                  <a:lnTo>
                    <a:pt x="1495" y="587"/>
                  </a:lnTo>
                  <a:lnTo>
                    <a:pt x="1498" y="605"/>
                  </a:lnTo>
                  <a:lnTo>
                    <a:pt x="1501" y="622"/>
                  </a:lnTo>
                  <a:lnTo>
                    <a:pt x="1501" y="644"/>
                  </a:lnTo>
                  <a:lnTo>
                    <a:pt x="1498" y="670"/>
                  </a:lnTo>
                  <a:lnTo>
                    <a:pt x="1498" y="689"/>
                  </a:lnTo>
                  <a:lnTo>
                    <a:pt x="1503" y="713"/>
                  </a:lnTo>
                  <a:lnTo>
                    <a:pt x="1513" y="734"/>
                  </a:lnTo>
                  <a:lnTo>
                    <a:pt x="1525" y="752"/>
                  </a:lnTo>
                  <a:lnTo>
                    <a:pt x="1540" y="766"/>
                  </a:lnTo>
                  <a:lnTo>
                    <a:pt x="1559" y="781"/>
                  </a:lnTo>
                  <a:lnTo>
                    <a:pt x="1579" y="790"/>
                  </a:lnTo>
                  <a:lnTo>
                    <a:pt x="1609" y="796"/>
                  </a:lnTo>
                  <a:lnTo>
                    <a:pt x="1634" y="799"/>
                  </a:lnTo>
                  <a:lnTo>
                    <a:pt x="1658" y="800"/>
                  </a:lnTo>
                  <a:lnTo>
                    <a:pt x="1685" y="799"/>
                  </a:lnTo>
                  <a:lnTo>
                    <a:pt x="1718" y="796"/>
                  </a:lnTo>
                  <a:lnTo>
                    <a:pt x="1744" y="794"/>
                  </a:lnTo>
                  <a:lnTo>
                    <a:pt x="1769" y="791"/>
                  </a:lnTo>
                  <a:lnTo>
                    <a:pt x="1793" y="790"/>
                  </a:lnTo>
                  <a:lnTo>
                    <a:pt x="1822" y="791"/>
                  </a:lnTo>
                  <a:lnTo>
                    <a:pt x="1837" y="794"/>
                  </a:lnTo>
                  <a:lnTo>
                    <a:pt x="1855" y="799"/>
                  </a:lnTo>
                  <a:lnTo>
                    <a:pt x="1871" y="808"/>
                  </a:lnTo>
                  <a:lnTo>
                    <a:pt x="1889" y="821"/>
                  </a:lnTo>
                  <a:lnTo>
                    <a:pt x="1903" y="836"/>
                  </a:lnTo>
                  <a:lnTo>
                    <a:pt x="1913" y="858"/>
                  </a:lnTo>
                  <a:lnTo>
                    <a:pt x="1918" y="878"/>
                  </a:lnTo>
                  <a:lnTo>
                    <a:pt x="1921" y="902"/>
                  </a:lnTo>
                  <a:lnTo>
                    <a:pt x="1924" y="945"/>
                  </a:lnTo>
                  <a:lnTo>
                    <a:pt x="1922" y="996"/>
                  </a:lnTo>
                  <a:lnTo>
                    <a:pt x="1924" y="1050"/>
                  </a:lnTo>
                  <a:lnTo>
                    <a:pt x="1919" y="1113"/>
                  </a:lnTo>
                  <a:lnTo>
                    <a:pt x="1915" y="1157"/>
                  </a:lnTo>
                  <a:lnTo>
                    <a:pt x="1910" y="1191"/>
                  </a:lnTo>
                  <a:lnTo>
                    <a:pt x="1903" y="1211"/>
                  </a:lnTo>
                  <a:lnTo>
                    <a:pt x="1891" y="1229"/>
                  </a:lnTo>
                  <a:lnTo>
                    <a:pt x="1877" y="1240"/>
                  </a:lnTo>
                  <a:lnTo>
                    <a:pt x="1859" y="1251"/>
                  </a:lnTo>
                  <a:lnTo>
                    <a:pt x="1838" y="1257"/>
                  </a:lnTo>
                  <a:lnTo>
                    <a:pt x="1820" y="1261"/>
                  </a:lnTo>
                  <a:lnTo>
                    <a:pt x="1783" y="1263"/>
                  </a:lnTo>
                  <a:lnTo>
                    <a:pt x="1750" y="1261"/>
                  </a:lnTo>
                  <a:lnTo>
                    <a:pt x="1723" y="1257"/>
                  </a:lnTo>
                  <a:lnTo>
                    <a:pt x="1699" y="1255"/>
                  </a:lnTo>
                  <a:lnTo>
                    <a:pt x="1672" y="1254"/>
                  </a:lnTo>
                  <a:lnTo>
                    <a:pt x="1648" y="1254"/>
                  </a:lnTo>
                  <a:lnTo>
                    <a:pt x="1627" y="1255"/>
                  </a:lnTo>
                  <a:lnTo>
                    <a:pt x="1604" y="1257"/>
                  </a:lnTo>
                  <a:lnTo>
                    <a:pt x="1577" y="1264"/>
                  </a:lnTo>
                  <a:lnTo>
                    <a:pt x="1562" y="1270"/>
                  </a:lnTo>
                  <a:lnTo>
                    <a:pt x="1549" y="1276"/>
                  </a:lnTo>
                  <a:lnTo>
                    <a:pt x="1531" y="1288"/>
                  </a:lnTo>
                  <a:lnTo>
                    <a:pt x="1519" y="1303"/>
                  </a:lnTo>
                  <a:lnTo>
                    <a:pt x="1510" y="1317"/>
                  </a:lnTo>
                  <a:lnTo>
                    <a:pt x="1501" y="1333"/>
                  </a:lnTo>
                  <a:lnTo>
                    <a:pt x="1497" y="1350"/>
                  </a:lnTo>
                  <a:lnTo>
                    <a:pt x="1495" y="1368"/>
                  </a:lnTo>
                  <a:lnTo>
                    <a:pt x="1497" y="1387"/>
                  </a:lnTo>
                  <a:lnTo>
                    <a:pt x="1497" y="1420"/>
                  </a:lnTo>
                  <a:lnTo>
                    <a:pt x="1495" y="1455"/>
                  </a:lnTo>
                  <a:lnTo>
                    <a:pt x="1486" y="1480"/>
                  </a:lnTo>
                  <a:lnTo>
                    <a:pt x="1477" y="1501"/>
                  </a:lnTo>
                  <a:lnTo>
                    <a:pt x="1464" y="1516"/>
                  </a:lnTo>
                  <a:lnTo>
                    <a:pt x="1444" y="1528"/>
                  </a:lnTo>
                  <a:lnTo>
                    <a:pt x="1425" y="1539"/>
                  </a:lnTo>
                  <a:lnTo>
                    <a:pt x="1402" y="1545"/>
                  </a:lnTo>
                  <a:lnTo>
                    <a:pt x="1374" y="1551"/>
                  </a:lnTo>
                  <a:lnTo>
                    <a:pt x="1350" y="1558"/>
                  </a:lnTo>
                  <a:lnTo>
                    <a:pt x="1321" y="1563"/>
                  </a:lnTo>
                  <a:lnTo>
                    <a:pt x="1297" y="1567"/>
                  </a:lnTo>
                  <a:lnTo>
                    <a:pt x="1270" y="1573"/>
                  </a:lnTo>
                  <a:lnTo>
                    <a:pt x="1249" y="1584"/>
                  </a:lnTo>
                  <a:lnTo>
                    <a:pt x="1225" y="1594"/>
                  </a:lnTo>
                  <a:lnTo>
                    <a:pt x="1203" y="1608"/>
                  </a:lnTo>
                  <a:lnTo>
                    <a:pt x="1186" y="1626"/>
                  </a:lnTo>
                  <a:lnTo>
                    <a:pt x="1171" y="1646"/>
                  </a:lnTo>
                  <a:lnTo>
                    <a:pt x="1160" y="1672"/>
                  </a:lnTo>
                  <a:lnTo>
                    <a:pt x="1157" y="1694"/>
                  </a:lnTo>
                  <a:lnTo>
                    <a:pt x="1158" y="1720"/>
                  </a:lnTo>
                  <a:lnTo>
                    <a:pt x="1163" y="1744"/>
                  </a:lnTo>
                  <a:lnTo>
                    <a:pt x="1170" y="1769"/>
                  </a:lnTo>
                  <a:lnTo>
                    <a:pt x="1176" y="1798"/>
                  </a:lnTo>
                  <a:lnTo>
                    <a:pt x="1180" y="1823"/>
                  </a:lnTo>
                  <a:lnTo>
                    <a:pt x="1186" y="1856"/>
                  </a:lnTo>
                  <a:lnTo>
                    <a:pt x="1186" y="1889"/>
                  </a:lnTo>
                  <a:lnTo>
                    <a:pt x="1179" y="1922"/>
                  </a:lnTo>
                  <a:lnTo>
                    <a:pt x="1171" y="1948"/>
                  </a:lnTo>
                  <a:lnTo>
                    <a:pt x="1163" y="1973"/>
                  </a:lnTo>
                  <a:lnTo>
                    <a:pt x="1151" y="1997"/>
                  </a:lnTo>
                  <a:lnTo>
                    <a:pt x="1134" y="2027"/>
                  </a:lnTo>
                  <a:lnTo>
                    <a:pt x="1116" y="2046"/>
                  </a:lnTo>
                  <a:lnTo>
                    <a:pt x="1101" y="2060"/>
                  </a:lnTo>
                  <a:lnTo>
                    <a:pt x="1082" y="2076"/>
                  </a:lnTo>
                  <a:lnTo>
                    <a:pt x="1061" y="2091"/>
                  </a:lnTo>
                  <a:lnTo>
                    <a:pt x="1041" y="2099"/>
                  </a:lnTo>
                  <a:lnTo>
                    <a:pt x="1023" y="2103"/>
                  </a:lnTo>
                  <a:lnTo>
                    <a:pt x="993" y="2106"/>
                  </a:lnTo>
                  <a:lnTo>
                    <a:pt x="959" y="2108"/>
                  </a:lnTo>
                  <a:lnTo>
                    <a:pt x="917" y="2106"/>
                  </a:lnTo>
                  <a:lnTo>
                    <a:pt x="897" y="2106"/>
                  </a:lnTo>
                  <a:lnTo>
                    <a:pt x="872" y="2102"/>
                  </a:lnTo>
                  <a:lnTo>
                    <a:pt x="845" y="2094"/>
                  </a:lnTo>
                  <a:lnTo>
                    <a:pt x="821" y="2081"/>
                  </a:lnTo>
                  <a:lnTo>
                    <a:pt x="806" y="2069"/>
                  </a:lnTo>
                  <a:lnTo>
                    <a:pt x="789" y="2052"/>
                  </a:lnTo>
                  <a:lnTo>
                    <a:pt x="776" y="2037"/>
                  </a:lnTo>
                  <a:lnTo>
                    <a:pt x="763" y="2018"/>
                  </a:lnTo>
                  <a:lnTo>
                    <a:pt x="752" y="1999"/>
                  </a:lnTo>
                  <a:lnTo>
                    <a:pt x="743" y="1975"/>
                  </a:lnTo>
                  <a:lnTo>
                    <a:pt x="739" y="1949"/>
                  </a:lnTo>
                  <a:lnTo>
                    <a:pt x="737" y="1930"/>
                  </a:lnTo>
                  <a:lnTo>
                    <a:pt x="737" y="1903"/>
                  </a:lnTo>
                  <a:lnTo>
                    <a:pt x="739" y="1880"/>
                  </a:lnTo>
                  <a:lnTo>
                    <a:pt x="746" y="1856"/>
                  </a:lnTo>
                  <a:lnTo>
                    <a:pt x="752" y="1828"/>
                  </a:lnTo>
                  <a:lnTo>
                    <a:pt x="760" y="1801"/>
                  </a:lnTo>
                  <a:lnTo>
                    <a:pt x="764" y="1777"/>
                  </a:lnTo>
                  <a:lnTo>
                    <a:pt x="766" y="1754"/>
                  </a:lnTo>
                  <a:lnTo>
                    <a:pt x="764" y="1736"/>
                  </a:lnTo>
                  <a:lnTo>
                    <a:pt x="760" y="1718"/>
                  </a:lnTo>
                  <a:lnTo>
                    <a:pt x="748" y="1696"/>
                  </a:lnTo>
                  <a:lnTo>
                    <a:pt x="736" y="1681"/>
                  </a:lnTo>
                  <a:lnTo>
                    <a:pt x="721" y="1664"/>
                  </a:lnTo>
                  <a:lnTo>
                    <a:pt x="704" y="1652"/>
                  </a:lnTo>
                  <a:lnTo>
                    <a:pt x="688" y="1640"/>
                  </a:lnTo>
                  <a:lnTo>
                    <a:pt x="664" y="1632"/>
                  </a:lnTo>
                  <a:lnTo>
                    <a:pt x="643" y="1626"/>
                  </a:lnTo>
                  <a:lnTo>
                    <a:pt x="616" y="1620"/>
                  </a:lnTo>
                  <a:lnTo>
                    <a:pt x="592" y="1617"/>
                  </a:lnTo>
                  <a:lnTo>
                    <a:pt x="569" y="1611"/>
                  </a:lnTo>
                  <a:lnTo>
                    <a:pt x="542" y="1605"/>
                  </a:lnTo>
                  <a:lnTo>
                    <a:pt x="520" y="1596"/>
                  </a:lnTo>
                  <a:lnTo>
                    <a:pt x="493" y="1588"/>
                  </a:lnTo>
                  <a:lnTo>
                    <a:pt x="472" y="1579"/>
                  </a:lnTo>
                  <a:lnTo>
                    <a:pt x="455" y="1566"/>
                  </a:lnTo>
                  <a:lnTo>
                    <a:pt x="442" y="1548"/>
                  </a:lnTo>
                  <a:lnTo>
                    <a:pt x="433" y="1525"/>
                  </a:lnTo>
                  <a:lnTo>
                    <a:pt x="425" y="1495"/>
                  </a:lnTo>
                  <a:lnTo>
                    <a:pt x="424" y="1471"/>
                  </a:lnTo>
                  <a:lnTo>
                    <a:pt x="425" y="1444"/>
                  </a:lnTo>
                  <a:lnTo>
                    <a:pt x="428" y="1423"/>
                  </a:lnTo>
                  <a:lnTo>
                    <a:pt x="425" y="1398"/>
                  </a:lnTo>
                  <a:lnTo>
                    <a:pt x="418" y="1378"/>
                  </a:lnTo>
                  <a:lnTo>
                    <a:pt x="404" y="1357"/>
                  </a:lnTo>
                  <a:lnTo>
                    <a:pt x="391" y="1344"/>
                  </a:lnTo>
                  <a:lnTo>
                    <a:pt x="375" y="1330"/>
                  </a:lnTo>
                  <a:lnTo>
                    <a:pt x="352" y="1321"/>
                  </a:lnTo>
                  <a:lnTo>
                    <a:pt x="327" y="1312"/>
                  </a:lnTo>
                  <a:lnTo>
                    <a:pt x="300" y="1309"/>
                  </a:lnTo>
                  <a:lnTo>
                    <a:pt x="277" y="1306"/>
                  </a:lnTo>
                  <a:lnTo>
                    <a:pt x="252" y="1306"/>
                  </a:lnTo>
                  <a:lnTo>
                    <a:pt x="229" y="1309"/>
                  </a:lnTo>
                  <a:lnTo>
                    <a:pt x="207" y="1311"/>
                  </a:lnTo>
                  <a:lnTo>
                    <a:pt x="184" y="1314"/>
                  </a:lnTo>
                  <a:lnTo>
                    <a:pt x="162" y="1317"/>
                  </a:lnTo>
                  <a:lnTo>
                    <a:pt x="124" y="1317"/>
                  </a:lnTo>
                  <a:lnTo>
                    <a:pt x="100" y="1315"/>
                  </a:lnTo>
                  <a:lnTo>
                    <a:pt x="75" y="1309"/>
                  </a:lnTo>
                  <a:lnTo>
                    <a:pt x="57" y="1300"/>
                  </a:lnTo>
                  <a:lnTo>
                    <a:pt x="37" y="1285"/>
                  </a:lnTo>
                  <a:lnTo>
                    <a:pt x="24" y="1269"/>
                  </a:lnTo>
                  <a:lnTo>
                    <a:pt x="15" y="1251"/>
                  </a:lnTo>
                  <a:lnTo>
                    <a:pt x="4" y="1217"/>
                  </a:lnTo>
                  <a:lnTo>
                    <a:pt x="3" y="1181"/>
                  </a:lnTo>
                  <a:lnTo>
                    <a:pt x="2" y="1145"/>
                  </a:lnTo>
                  <a:lnTo>
                    <a:pt x="0" y="1100"/>
                  </a:lnTo>
                  <a:lnTo>
                    <a:pt x="3" y="1061"/>
                  </a:lnTo>
                  <a:lnTo>
                    <a:pt x="4" y="1019"/>
                  </a:lnTo>
                  <a:lnTo>
                    <a:pt x="6" y="981"/>
                  </a:lnTo>
                  <a:lnTo>
                    <a:pt x="9" y="942"/>
                  </a:lnTo>
                  <a:lnTo>
                    <a:pt x="13" y="912"/>
                  </a:lnTo>
                  <a:lnTo>
                    <a:pt x="18" y="879"/>
                  </a:lnTo>
                  <a:lnTo>
                    <a:pt x="24" y="854"/>
                  </a:lnTo>
                  <a:lnTo>
                    <a:pt x="33" y="837"/>
                  </a:lnTo>
                  <a:lnTo>
                    <a:pt x="46" y="821"/>
                  </a:lnTo>
                  <a:lnTo>
                    <a:pt x="60" y="811"/>
                  </a:lnTo>
                  <a:lnTo>
                    <a:pt x="78" y="799"/>
                  </a:lnTo>
                  <a:lnTo>
                    <a:pt x="94" y="796"/>
                  </a:lnTo>
                  <a:lnTo>
                    <a:pt x="115" y="791"/>
                  </a:lnTo>
                  <a:lnTo>
                    <a:pt x="142" y="790"/>
                  </a:lnTo>
                  <a:lnTo>
                    <a:pt x="166" y="791"/>
                  </a:lnTo>
                  <a:lnTo>
                    <a:pt x="199" y="796"/>
                  </a:lnTo>
                  <a:lnTo>
                    <a:pt x="228" y="797"/>
                  </a:lnTo>
                  <a:lnTo>
                    <a:pt x="252" y="799"/>
                  </a:lnTo>
                  <a:lnTo>
                    <a:pt x="285" y="800"/>
                  </a:lnTo>
                  <a:lnTo>
                    <a:pt x="319" y="796"/>
                  </a:lnTo>
                  <a:lnTo>
                    <a:pt x="348" y="790"/>
                  </a:lnTo>
                  <a:lnTo>
                    <a:pt x="375" y="779"/>
                  </a:lnTo>
                  <a:lnTo>
                    <a:pt x="392" y="769"/>
                  </a:lnTo>
                  <a:lnTo>
                    <a:pt x="410" y="752"/>
                  </a:lnTo>
                  <a:lnTo>
                    <a:pt x="424" y="731"/>
                  </a:lnTo>
                  <a:lnTo>
                    <a:pt x="433" y="710"/>
                  </a:lnTo>
                  <a:lnTo>
                    <a:pt x="436" y="688"/>
                  </a:lnTo>
                  <a:lnTo>
                    <a:pt x="434" y="671"/>
                  </a:lnTo>
                  <a:lnTo>
                    <a:pt x="433" y="640"/>
                  </a:lnTo>
                  <a:lnTo>
                    <a:pt x="434" y="608"/>
                  </a:lnTo>
                  <a:lnTo>
                    <a:pt x="440" y="584"/>
                  </a:lnTo>
                  <a:lnTo>
                    <a:pt x="448" y="562"/>
                  </a:lnTo>
                  <a:lnTo>
                    <a:pt x="458" y="545"/>
                  </a:lnTo>
                  <a:lnTo>
                    <a:pt x="479" y="529"/>
                  </a:lnTo>
                  <a:lnTo>
                    <a:pt x="502" y="517"/>
                  </a:lnTo>
                  <a:lnTo>
                    <a:pt x="530" y="508"/>
                  </a:lnTo>
                  <a:lnTo>
                    <a:pt x="559" y="500"/>
                  </a:lnTo>
                  <a:lnTo>
                    <a:pt x="583" y="494"/>
                  </a:lnTo>
                  <a:lnTo>
                    <a:pt x="613" y="490"/>
                  </a:lnTo>
                  <a:lnTo>
                    <a:pt x="641" y="484"/>
                  </a:lnTo>
                  <a:lnTo>
                    <a:pt x="674" y="475"/>
                  </a:lnTo>
                  <a:lnTo>
                    <a:pt x="706" y="461"/>
                  </a:lnTo>
                  <a:lnTo>
                    <a:pt x="733" y="440"/>
                  </a:lnTo>
                  <a:close/>
                </a:path>
              </a:pathLst>
            </a:custGeom>
            <a:solidFill>
              <a:srgbClr val="ff33c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79560" y="3168720"/>
              <a:ext cx="1895400" cy="12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CIS/2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STEP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4618080" y="3662280"/>
            <a:ext cx="2754360" cy="2237040"/>
            <a:chOff x="4618080" y="3662280"/>
            <a:chExt cx="2754360" cy="2237040"/>
          </a:xfrm>
        </p:grpSpPr>
        <p:sp>
          <p:nvSpPr>
            <p:cNvPr id="103" name=""/>
            <p:cNvSpPr/>
            <p:nvPr/>
          </p:nvSpPr>
          <p:spPr>
            <a:xfrm>
              <a:off x="4618080" y="3662280"/>
              <a:ext cx="2754360" cy="223704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0" y="1113"/>
                  </a:moveTo>
                  <a:lnTo>
                    <a:pt x="0" y="1409"/>
                  </a:lnTo>
                  <a:lnTo>
                    <a:pt x="1735" y="1409"/>
                  </a:lnTo>
                  <a:lnTo>
                    <a:pt x="1733" y="0"/>
                  </a:lnTo>
                  <a:lnTo>
                    <a:pt x="1579" y="0"/>
                  </a:lnTo>
                  <a:lnTo>
                    <a:pt x="1571" y="27"/>
                  </a:lnTo>
                  <a:lnTo>
                    <a:pt x="1571" y="47"/>
                  </a:lnTo>
                  <a:lnTo>
                    <a:pt x="1576" y="74"/>
                  </a:lnTo>
                  <a:lnTo>
                    <a:pt x="1585" y="102"/>
                  </a:lnTo>
                  <a:lnTo>
                    <a:pt x="1594" y="137"/>
                  </a:lnTo>
                  <a:lnTo>
                    <a:pt x="1598" y="164"/>
                  </a:lnTo>
                  <a:lnTo>
                    <a:pt x="1598" y="188"/>
                  </a:lnTo>
                  <a:lnTo>
                    <a:pt x="1595" y="215"/>
                  </a:lnTo>
                  <a:lnTo>
                    <a:pt x="1588" y="240"/>
                  </a:lnTo>
                  <a:lnTo>
                    <a:pt x="1571" y="264"/>
                  </a:lnTo>
                  <a:lnTo>
                    <a:pt x="1552" y="285"/>
                  </a:lnTo>
                  <a:lnTo>
                    <a:pt x="1531" y="304"/>
                  </a:lnTo>
                  <a:lnTo>
                    <a:pt x="1507" y="318"/>
                  </a:lnTo>
                  <a:lnTo>
                    <a:pt x="1478" y="328"/>
                  </a:lnTo>
                  <a:lnTo>
                    <a:pt x="1453" y="334"/>
                  </a:lnTo>
                  <a:lnTo>
                    <a:pt x="1417" y="336"/>
                  </a:lnTo>
                  <a:lnTo>
                    <a:pt x="1375" y="333"/>
                  </a:lnTo>
                  <a:lnTo>
                    <a:pt x="1348" y="328"/>
                  </a:lnTo>
                  <a:lnTo>
                    <a:pt x="1324" y="322"/>
                  </a:lnTo>
                  <a:lnTo>
                    <a:pt x="1302" y="309"/>
                  </a:lnTo>
                  <a:lnTo>
                    <a:pt x="1273" y="286"/>
                  </a:lnTo>
                  <a:lnTo>
                    <a:pt x="1255" y="265"/>
                  </a:lnTo>
                  <a:lnTo>
                    <a:pt x="1239" y="243"/>
                  </a:lnTo>
                  <a:lnTo>
                    <a:pt x="1230" y="219"/>
                  </a:lnTo>
                  <a:lnTo>
                    <a:pt x="1224" y="197"/>
                  </a:lnTo>
                  <a:lnTo>
                    <a:pt x="1224" y="171"/>
                  </a:lnTo>
                  <a:lnTo>
                    <a:pt x="1227" y="146"/>
                  </a:lnTo>
                  <a:lnTo>
                    <a:pt x="1233" y="122"/>
                  </a:lnTo>
                  <a:lnTo>
                    <a:pt x="1239" y="99"/>
                  </a:lnTo>
                  <a:lnTo>
                    <a:pt x="1246" y="75"/>
                  </a:lnTo>
                  <a:lnTo>
                    <a:pt x="1251" y="51"/>
                  </a:lnTo>
                  <a:lnTo>
                    <a:pt x="1251" y="30"/>
                  </a:lnTo>
                  <a:lnTo>
                    <a:pt x="1245" y="6"/>
                  </a:lnTo>
                  <a:lnTo>
                    <a:pt x="954" y="6"/>
                  </a:lnTo>
                  <a:lnTo>
                    <a:pt x="957" y="56"/>
                  </a:lnTo>
                  <a:lnTo>
                    <a:pt x="954" y="90"/>
                  </a:lnTo>
                  <a:lnTo>
                    <a:pt x="953" y="119"/>
                  </a:lnTo>
                  <a:lnTo>
                    <a:pt x="953" y="144"/>
                  </a:lnTo>
                  <a:lnTo>
                    <a:pt x="950" y="171"/>
                  </a:lnTo>
                  <a:lnTo>
                    <a:pt x="944" y="198"/>
                  </a:lnTo>
                  <a:lnTo>
                    <a:pt x="936" y="216"/>
                  </a:lnTo>
                  <a:lnTo>
                    <a:pt x="926" y="233"/>
                  </a:lnTo>
                  <a:lnTo>
                    <a:pt x="911" y="246"/>
                  </a:lnTo>
                  <a:lnTo>
                    <a:pt x="894" y="256"/>
                  </a:lnTo>
                  <a:lnTo>
                    <a:pt x="875" y="262"/>
                  </a:lnTo>
                  <a:lnTo>
                    <a:pt x="854" y="265"/>
                  </a:lnTo>
                  <a:lnTo>
                    <a:pt x="834" y="267"/>
                  </a:lnTo>
                  <a:lnTo>
                    <a:pt x="809" y="267"/>
                  </a:lnTo>
                  <a:lnTo>
                    <a:pt x="785" y="264"/>
                  </a:lnTo>
                  <a:lnTo>
                    <a:pt x="765" y="262"/>
                  </a:lnTo>
                  <a:lnTo>
                    <a:pt x="740" y="261"/>
                  </a:lnTo>
                  <a:lnTo>
                    <a:pt x="713" y="258"/>
                  </a:lnTo>
                  <a:lnTo>
                    <a:pt x="683" y="258"/>
                  </a:lnTo>
                  <a:lnTo>
                    <a:pt x="657" y="261"/>
                  </a:lnTo>
                  <a:lnTo>
                    <a:pt x="632" y="264"/>
                  </a:lnTo>
                  <a:lnTo>
                    <a:pt x="605" y="271"/>
                  </a:lnTo>
                  <a:lnTo>
                    <a:pt x="586" y="282"/>
                  </a:lnTo>
                  <a:lnTo>
                    <a:pt x="565" y="295"/>
                  </a:lnTo>
                  <a:lnTo>
                    <a:pt x="551" y="313"/>
                  </a:lnTo>
                  <a:lnTo>
                    <a:pt x="538" y="333"/>
                  </a:lnTo>
                  <a:lnTo>
                    <a:pt x="532" y="352"/>
                  </a:lnTo>
                  <a:lnTo>
                    <a:pt x="529" y="375"/>
                  </a:lnTo>
                  <a:lnTo>
                    <a:pt x="532" y="397"/>
                  </a:lnTo>
                  <a:lnTo>
                    <a:pt x="533" y="421"/>
                  </a:lnTo>
                  <a:lnTo>
                    <a:pt x="532" y="447"/>
                  </a:lnTo>
                  <a:lnTo>
                    <a:pt x="527" y="466"/>
                  </a:lnTo>
                  <a:lnTo>
                    <a:pt x="521" y="487"/>
                  </a:lnTo>
                  <a:lnTo>
                    <a:pt x="512" y="507"/>
                  </a:lnTo>
                  <a:lnTo>
                    <a:pt x="500" y="520"/>
                  </a:lnTo>
                  <a:lnTo>
                    <a:pt x="481" y="534"/>
                  </a:lnTo>
                  <a:lnTo>
                    <a:pt x="457" y="543"/>
                  </a:lnTo>
                  <a:lnTo>
                    <a:pt x="433" y="550"/>
                  </a:lnTo>
                  <a:lnTo>
                    <a:pt x="410" y="556"/>
                  </a:lnTo>
                  <a:lnTo>
                    <a:pt x="386" y="562"/>
                  </a:lnTo>
                  <a:lnTo>
                    <a:pt x="355" y="568"/>
                  </a:lnTo>
                  <a:lnTo>
                    <a:pt x="331" y="573"/>
                  </a:lnTo>
                  <a:lnTo>
                    <a:pt x="305" y="580"/>
                  </a:lnTo>
                  <a:lnTo>
                    <a:pt x="284" y="588"/>
                  </a:lnTo>
                  <a:lnTo>
                    <a:pt x="263" y="597"/>
                  </a:lnTo>
                  <a:lnTo>
                    <a:pt x="247" y="609"/>
                  </a:lnTo>
                  <a:lnTo>
                    <a:pt x="232" y="621"/>
                  </a:lnTo>
                  <a:lnTo>
                    <a:pt x="215" y="640"/>
                  </a:lnTo>
                  <a:lnTo>
                    <a:pt x="205" y="658"/>
                  </a:lnTo>
                  <a:lnTo>
                    <a:pt x="196" y="679"/>
                  </a:lnTo>
                  <a:lnTo>
                    <a:pt x="192" y="704"/>
                  </a:lnTo>
                  <a:lnTo>
                    <a:pt x="195" y="728"/>
                  </a:lnTo>
                  <a:lnTo>
                    <a:pt x="198" y="752"/>
                  </a:lnTo>
                  <a:lnTo>
                    <a:pt x="205" y="781"/>
                  </a:lnTo>
                  <a:lnTo>
                    <a:pt x="212" y="812"/>
                  </a:lnTo>
                  <a:lnTo>
                    <a:pt x="218" y="841"/>
                  </a:lnTo>
                  <a:lnTo>
                    <a:pt x="221" y="863"/>
                  </a:lnTo>
                  <a:lnTo>
                    <a:pt x="221" y="884"/>
                  </a:lnTo>
                  <a:lnTo>
                    <a:pt x="218" y="913"/>
                  </a:lnTo>
                  <a:lnTo>
                    <a:pt x="211" y="937"/>
                  </a:lnTo>
                  <a:lnTo>
                    <a:pt x="205" y="958"/>
                  </a:lnTo>
                  <a:lnTo>
                    <a:pt x="196" y="977"/>
                  </a:lnTo>
                  <a:lnTo>
                    <a:pt x="184" y="1003"/>
                  </a:lnTo>
                  <a:lnTo>
                    <a:pt x="168" y="1031"/>
                  </a:lnTo>
                  <a:lnTo>
                    <a:pt x="150" y="1052"/>
                  </a:lnTo>
                  <a:lnTo>
                    <a:pt x="132" y="1068"/>
                  </a:lnTo>
                  <a:lnTo>
                    <a:pt x="115" y="1083"/>
                  </a:lnTo>
                  <a:lnTo>
                    <a:pt x="97" y="1095"/>
                  </a:lnTo>
                  <a:lnTo>
                    <a:pt x="79" y="1103"/>
                  </a:lnTo>
                  <a:lnTo>
                    <a:pt x="54" y="1109"/>
                  </a:lnTo>
                  <a:lnTo>
                    <a:pt x="25" y="1113"/>
                  </a:lnTo>
                  <a:lnTo>
                    <a:pt x="0" y="1113"/>
                  </a:lnTo>
                  <a:close/>
                </a:path>
              </a:pathLst>
            </a:custGeom>
            <a:solidFill>
              <a:srgbClr val="0033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318640" y="4195800"/>
              <a:ext cx="19468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4x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Generi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Resourc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4629240" y="1533600"/>
            <a:ext cx="2743200" cy="2668680"/>
            <a:chOff x="4629240" y="1533600"/>
            <a:chExt cx="2743200" cy="2668680"/>
          </a:xfrm>
        </p:grpSpPr>
        <p:sp>
          <p:nvSpPr>
            <p:cNvPr id="106" name=""/>
            <p:cNvSpPr/>
            <p:nvPr/>
          </p:nvSpPr>
          <p:spPr>
            <a:xfrm>
              <a:off x="4629240" y="153360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0" y="351"/>
                  </a:moveTo>
                  <a:lnTo>
                    <a:pt x="0" y="0"/>
                  </a:lnTo>
                  <a:lnTo>
                    <a:pt x="1726" y="0"/>
                  </a:lnTo>
                  <a:lnTo>
                    <a:pt x="1728" y="1343"/>
                  </a:lnTo>
                  <a:lnTo>
                    <a:pt x="1578" y="1343"/>
                  </a:lnTo>
                  <a:lnTo>
                    <a:pt x="1572" y="1355"/>
                  </a:lnTo>
                  <a:lnTo>
                    <a:pt x="1567" y="1371"/>
                  </a:lnTo>
                  <a:lnTo>
                    <a:pt x="1567" y="1385"/>
                  </a:lnTo>
                  <a:lnTo>
                    <a:pt x="1569" y="1401"/>
                  </a:lnTo>
                  <a:lnTo>
                    <a:pt x="1575" y="1422"/>
                  </a:lnTo>
                  <a:lnTo>
                    <a:pt x="1581" y="1449"/>
                  </a:lnTo>
                  <a:lnTo>
                    <a:pt x="1587" y="1467"/>
                  </a:lnTo>
                  <a:lnTo>
                    <a:pt x="1591" y="1490"/>
                  </a:lnTo>
                  <a:lnTo>
                    <a:pt x="1594" y="1511"/>
                  </a:lnTo>
                  <a:lnTo>
                    <a:pt x="1594" y="1532"/>
                  </a:lnTo>
                  <a:lnTo>
                    <a:pt x="1591" y="1551"/>
                  </a:lnTo>
                  <a:lnTo>
                    <a:pt x="1587" y="1572"/>
                  </a:lnTo>
                  <a:lnTo>
                    <a:pt x="1579" y="1591"/>
                  </a:lnTo>
                  <a:lnTo>
                    <a:pt x="1567" y="1606"/>
                  </a:lnTo>
                  <a:lnTo>
                    <a:pt x="1551" y="1624"/>
                  </a:lnTo>
                  <a:lnTo>
                    <a:pt x="1534" y="1638"/>
                  </a:lnTo>
                  <a:lnTo>
                    <a:pt x="1519" y="1651"/>
                  </a:lnTo>
                  <a:lnTo>
                    <a:pt x="1501" y="1662"/>
                  </a:lnTo>
                  <a:lnTo>
                    <a:pt x="1480" y="1669"/>
                  </a:lnTo>
                  <a:lnTo>
                    <a:pt x="1455" y="1677"/>
                  </a:lnTo>
                  <a:lnTo>
                    <a:pt x="1431" y="1680"/>
                  </a:lnTo>
                  <a:lnTo>
                    <a:pt x="1410" y="1681"/>
                  </a:lnTo>
                  <a:lnTo>
                    <a:pt x="1387" y="1681"/>
                  </a:lnTo>
                  <a:lnTo>
                    <a:pt x="1367" y="1680"/>
                  </a:lnTo>
                  <a:lnTo>
                    <a:pt x="1350" y="1677"/>
                  </a:lnTo>
                  <a:lnTo>
                    <a:pt x="1331" y="1671"/>
                  </a:lnTo>
                  <a:lnTo>
                    <a:pt x="1311" y="1665"/>
                  </a:lnTo>
                  <a:lnTo>
                    <a:pt x="1296" y="1656"/>
                  </a:lnTo>
                  <a:lnTo>
                    <a:pt x="1280" y="1644"/>
                  </a:lnTo>
                  <a:lnTo>
                    <a:pt x="1265" y="1629"/>
                  </a:lnTo>
                  <a:lnTo>
                    <a:pt x="1250" y="1612"/>
                  </a:lnTo>
                  <a:lnTo>
                    <a:pt x="1236" y="1596"/>
                  </a:lnTo>
                  <a:lnTo>
                    <a:pt x="1226" y="1578"/>
                  </a:lnTo>
                  <a:lnTo>
                    <a:pt x="1218" y="1556"/>
                  </a:lnTo>
                  <a:lnTo>
                    <a:pt x="1212" y="1530"/>
                  </a:lnTo>
                  <a:lnTo>
                    <a:pt x="1212" y="1506"/>
                  </a:lnTo>
                  <a:lnTo>
                    <a:pt x="1218" y="1482"/>
                  </a:lnTo>
                  <a:lnTo>
                    <a:pt x="1224" y="1458"/>
                  </a:lnTo>
                  <a:lnTo>
                    <a:pt x="1230" y="1434"/>
                  </a:lnTo>
                  <a:lnTo>
                    <a:pt x="1238" y="1407"/>
                  </a:lnTo>
                  <a:lnTo>
                    <a:pt x="1241" y="1386"/>
                  </a:lnTo>
                  <a:lnTo>
                    <a:pt x="1241" y="1374"/>
                  </a:lnTo>
                  <a:lnTo>
                    <a:pt x="1239" y="1364"/>
                  </a:lnTo>
                  <a:lnTo>
                    <a:pt x="1235" y="1352"/>
                  </a:lnTo>
                  <a:lnTo>
                    <a:pt x="947" y="1352"/>
                  </a:lnTo>
                  <a:lnTo>
                    <a:pt x="952" y="1301"/>
                  </a:lnTo>
                  <a:lnTo>
                    <a:pt x="950" y="1272"/>
                  </a:lnTo>
                  <a:lnTo>
                    <a:pt x="947" y="1245"/>
                  </a:lnTo>
                  <a:lnTo>
                    <a:pt x="944" y="1220"/>
                  </a:lnTo>
                  <a:lnTo>
                    <a:pt x="940" y="1203"/>
                  </a:lnTo>
                  <a:lnTo>
                    <a:pt x="932" y="1188"/>
                  </a:lnTo>
                  <a:lnTo>
                    <a:pt x="923" y="1175"/>
                  </a:lnTo>
                  <a:lnTo>
                    <a:pt x="908" y="1163"/>
                  </a:lnTo>
                  <a:lnTo>
                    <a:pt x="892" y="1153"/>
                  </a:lnTo>
                  <a:lnTo>
                    <a:pt x="875" y="1147"/>
                  </a:lnTo>
                  <a:lnTo>
                    <a:pt x="860" y="1144"/>
                  </a:lnTo>
                  <a:lnTo>
                    <a:pt x="835" y="1142"/>
                  </a:lnTo>
                  <a:lnTo>
                    <a:pt x="805" y="1142"/>
                  </a:lnTo>
                  <a:lnTo>
                    <a:pt x="776" y="1145"/>
                  </a:lnTo>
                  <a:lnTo>
                    <a:pt x="745" y="1147"/>
                  </a:lnTo>
                  <a:lnTo>
                    <a:pt x="721" y="1150"/>
                  </a:lnTo>
                  <a:lnTo>
                    <a:pt x="689" y="1151"/>
                  </a:lnTo>
                  <a:lnTo>
                    <a:pt x="664" y="1150"/>
                  </a:lnTo>
                  <a:lnTo>
                    <a:pt x="641" y="1147"/>
                  </a:lnTo>
                  <a:lnTo>
                    <a:pt x="607" y="1139"/>
                  </a:lnTo>
                  <a:lnTo>
                    <a:pt x="585" y="1129"/>
                  </a:lnTo>
                  <a:lnTo>
                    <a:pt x="564" y="1114"/>
                  </a:lnTo>
                  <a:lnTo>
                    <a:pt x="550" y="1097"/>
                  </a:lnTo>
                  <a:lnTo>
                    <a:pt x="538" y="1079"/>
                  </a:lnTo>
                  <a:lnTo>
                    <a:pt x="529" y="1057"/>
                  </a:lnTo>
                  <a:lnTo>
                    <a:pt x="528" y="1033"/>
                  </a:lnTo>
                  <a:lnTo>
                    <a:pt x="528" y="1003"/>
                  </a:lnTo>
                  <a:lnTo>
                    <a:pt x="529" y="980"/>
                  </a:lnTo>
                  <a:lnTo>
                    <a:pt x="528" y="958"/>
                  </a:lnTo>
                  <a:lnTo>
                    <a:pt x="522" y="932"/>
                  </a:lnTo>
                  <a:lnTo>
                    <a:pt x="517" y="917"/>
                  </a:lnTo>
                  <a:lnTo>
                    <a:pt x="510" y="902"/>
                  </a:lnTo>
                  <a:lnTo>
                    <a:pt x="501" y="892"/>
                  </a:lnTo>
                  <a:lnTo>
                    <a:pt x="492" y="883"/>
                  </a:lnTo>
                  <a:lnTo>
                    <a:pt x="472" y="874"/>
                  </a:lnTo>
                  <a:lnTo>
                    <a:pt x="450" y="863"/>
                  </a:lnTo>
                  <a:lnTo>
                    <a:pt x="424" y="856"/>
                  </a:lnTo>
                  <a:lnTo>
                    <a:pt x="394" y="848"/>
                  </a:lnTo>
                  <a:lnTo>
                    <a:pt x="364" y="842"/>
                  </a:lnTo>
                  <a:lnTo>
                    <a:pt x="333" y="838"/>
                  </a:lnTo>
                  <a:lnTo>
                    <a:pt x="310" y="830"/>
                  </a:lnTo>
                  <a:lnTo>
                    <a:pt x="286" y="823"/>
                  </a:lnTo>
                  <a:lnTo>
                    <a:pt x="262" y="814"/>
                  </a:lnTo>
                  <a:lnTo>
                    <a:pt x="246" y="800"/>
                  </a:lnTo>
                  <a:lnTo>
                    <a:pt x="226" y="784"/>
                  </a:lnTo>
                  <a:lnTo>
                    <a:pt x="213" y="769"/>
                  </a:lnTo>
                  <a:lnTo>
                    <a:pt x="201" y="751"/>
                  </a:lnTo>
                  <a:lnTo>
                    <a:pt x="192" y="730"/>
                  </a:lnTo>
                  <a:lnTo>
                    <a:pt x="189" y="708"/>
                  </a:lnTo>
                  <a:lnTo>
                    <a:pt x="189" y="687"/>
                  </a:lnTo>
                  <a:lnTo>
                    <a:pt x="194" y="667"/>
                  </a:lnTo>
                  <a:lnTo>
                    <a:pt x="201" y="639"/>
                  </a:lnTo>
                  <a:lnTo>
                    <a:pt x="208" y="610"/>
                  </a:lnTo>
                  <a:lnTo>
                    <a:pt x="211" y="585"/>
                  </a:lnTo>
                  <a:lnTo>
                    <a:pt x="217" y="559"/>
                  </a:lnTo>
                  <a:lnTo>
                    <a:pt x="220" y="534"/>
                  </a:lnTo>
                  <a:lnTo>
                    <a:pt x="217" y="507"/>
                  </a:lnTo>
                  <a:lnTo>
                    <a:pt x="211" y="483"/>
                  </a:lnTo>
                  <a:lnTo>
                    <a:pt x="202" y="459"/>
                  </a:lnTo>
                  <a:lnTo>
                    <a:pt x="191" y="436"/>
                  </a:lnTo>
                  <a:lnTo>
                    <a:pt x="177" y="418"/>
                  </a:lnTo>
                  <a:lnTo>
                    <a:pt x="170" y="408"/>
                  </a:lnTo>
                  <a:lnTo>
                    <a:pt x="156" y="394"/>
                  </a:lnTo>
                  <a:lnTo>
                    <a:pt x="143" y="383"/>
                  </a:lnTo>
                  <a:lnTo>
                    <a:pt x="129" y="374"/>
                  </a:lnTo>
                  <a:lnTo>
                    <a:pt x="111" y="365"/>
                  </a:lnTo>
                  <a:lnTo>
                    <a:pt x="93" y="359"/>
                  </a:lnTo>
                  <a:lnTo>
                    <a:pt x="71" y="353"/>
                  </a:lnTo>
                  <a:lnTo>
                    <a:pt x="45" y="351"/>
                  </a:lnTo>
                  <a:lnTo>
                    <a:pt x="23" y="351"/>
                  </a:lnTo>
                  <a:lnTo>
                    <a:pt x="0" y="351"/>
                  </a:lnTo>
                  <a:close/>
                </a:path>
              </a:pathLst>
            </a:custGeom>
            <a:solidFill>
              <a:srgbClr val="cc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946040" y="1619280"/>
              <a:ext cx="23860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Physical Fi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Forma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1874880" y="1533600"/>
            <a:ext cx="2754360" cy="2236680"/>
            <a:chOff x="1874880" y="1533600"/>
            <a:chExt cx="2754360" cy="2236680"/>
          </a:xfrm>
        </p:grpSpPr>
        <p:sp>
          <p:nvSpPr>
            <p:cNvPr id="109" name=""/>
            <p:cNvSpPr/>
            <p:nvPr/>
          </p:nvSpPr>
          <p:spPr>
            <a:xfrm>
              <a:off x="1874880" y="1533600"/>
              <a:ext cx="2754360" cy="223668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1735" y="351"/>
                  </a:moveTo>
                  <a:lnTo>
                    <a:pt x="1735" y="0"/>
                  </a:lnTo>
                  <a:lnTo>
                    <a:pt x="0" y="0"/>
                  </a:lnTo>
                  <a:lnTo>
                    <a:pt x="2" y="1409"/>
                  </a:lnTo>
                  <a:lnTo>
                    <a:pt x="156" y="1409"/>
                  </a:lnTo>
                  <a:lnTo>
                    <a:pt x="164" y="1382"/>
                  </a:lnTo>
                  <a:lnTo>
                    <a:pt x="164" y="1362"/>
                  </a:lnTo>
                  <a:lnTo>
                    <a:pt x="159" y="1335"/>
                  </a:lnTo>
                  <a:lnTo>
                    <a:pt x="150" y="1307"/>
                  </a:lnTo>
                  <a:lnTo>
                    <a:pt x="141" y="1272"/>
                  </a:lnTo>
                  <a:lnTo>
                    <a:pt x="137" y="1245"/>
                  </a:lnTo>
                  <a:lnTo>
                    <a:pt x="135" y="1221"/>
                  </a:lnTo>
                  <a:lnTo>
                    <a:pt x="140" y="1194"/>
                  </a:lnTo>
                  <a:lnTo>
                    <a:pt x="147" y="1169"/>
                  </a:lnTo>
                  <a:lnTo>
                    <a:pt x="164" y="1144"/>
                  </a:lnTo>
                  <a:lnTo>
                    <a:pt x="183" y="1124"/>
                  </a:lnTo>
                  <a:lnTo>
                    <a:pt x="204" y="1105"/>
                  </a:lnTo>
                  <a:lnTo>
                    <a:pt x="228" y="1091"/>
                  </a:lnTo>
                  <a:lnTo>
                    <a:pt x="257" y="1079"/>
                  </a:lnTo>
                  <a:lnTo>
                    <a:pt x="282" y="1075"/>
                  </a:lnTo>
                  <a:lnTo>
                    <a:pt x="318" y="1073"/>
                  </a:lnTo>
                  <a:lnTo>
                    <a:pt x="360" y="1076"/>
                  </a:lnTo>
                  <a:lnTo>
                    <a:pt x="387" y="1079"/>
                  </a:lnTo>
                  <a:lnTo>
                    <a:pt x="411" y="1087"/>
                  </a:lnTo>
                  <a:lnTo>
                    <a:pt x="433" y="1100"/>
                  </a:lnTo>
                  <a:lnTo>
                    <a:pt x="462" y="1123"/>
                  </a:lnTo>
                  <a:lnTo>
                    <a:pt x="480" y="1144"/>
                  </a:lnTo>
                  <a:lnTo>
                    <a:pt x="496" y="1166"/>
                  </a:lnTo>
                  <a:lnTo>
                    <a:pt x="505" y="1190"/>
                  </a:lnTo>
                  <a:lnTo>
                    <a:pt x="511" y="1212"/>
                  </a:lnTo>
                  <a:lnTo>
                    <a:pt x="511" y="1238"/>
                  </a:lnTo>
                  <a:lnTo>
                    <a:pt x="508" y="1263"/>
                  </a:lnTo>
                  <a:lnTo>
                    <a:pt x="502" y="1287"/>
                  </a:lnTo>
                  <a:lnTo>
                    <a:pt x="496" y="1310"/>
                  </a:lnTo>
                  <a:lnTo>
                    <a:pt x="489" y="1334"/>
                  </a:lnTo>
                  <a:lnTo>
                    <a:pt x="484" y="1358"/>
                  </a:lnTo>
                  <a:lnTo>
                    <a:pt x="484" y="1379"/>
                  </a:lnTo>
                  <a:lnTo>
                    <a:pt x="490" y="1403"/>
                  </a:lnTo>
                  <a:lnTo>
                    <a:pt x="781" y="1403"/>
                  </a:lnTo>
                  <a:lnTo>
                    <a:pt x="778" y="1353"/>
                  </a:lnTo>
                  <a:lnTo>
                    <a:pt x="781" y="1317"/>
                  </a:lnTo>
                  <a:lnTo>
                    <a:pt x="781" y="1290"/>
                  </a:lnTo>
                  <a:lnTo>
                    <a:pt x="782" y="1265"/>
                  </a:lnTo>
                  <a:lnTo>
                    <a:pt x="785" y="1238"/>
                  </a:lnTo>
                  <a:lnTo>
                    <a:pt x="791" y="1211"/>
                  </a:lnTo>
                  <a:lnTo>
                    <a:pt x="799" y="1193"/>
                  </a:lnTo>
                  <a:lnTo>
                    <a:pt x="809" y="1177"/>
                  </a:lnTo>
                  <a:lnTo>
                    <a:pt x="824" y="1163"/>
                  </a:lnTo>
                  <a:lnTo>
                    <a:pt x="841" y="1153"/>
                  </a:lnTo>
                  <a:lnTo>
                    <a:pt x="860" y="1147"/>
                  </a:lnTo>
                  <a:lnTo>
                    <a:pt x="881" y="1144"/>
                  </a:lnTo>
                  <a:lnTo>
                    <a:pt x="901" y="1142"/>
                  </a:lnTo>
                  <a:lnTo>
                    <a:pt x="926" y="1142"/>
                  </a:lnTo>
                  <a:lnTo>
                    <a:pt x="950" y="1144"/>
                  </a:lnTo>
                  <a:lnTo>
                    <a:pt x="970" y="1147"/>
                  </a:lnTo>
                  <a:lnTo>
                    <a:pt x="995" y="1148"/>
                  </a:lnTo>
                  <a:lnTo>
                    <a:pt x="1022" y="1151"/>
                  </a:lnTo>
                  <a:lnTo>
                    <a:pt x="1052" y="1151"/>
                  </a:lnTo>
                  <a:lnTo>
                    <a:pt x="1078" y="1148"/>
                  </a:lnTo>
                  <a:lnTo>
                    <a:pt x="1103" y="1144"/>
                  </a:lnTo>
                  <a:lnTo>
                    <a:pt x="1130" y="1138"/>
                  </a:lnTo>
                  <a:lnTo>
                    <a:pt x="1150" y="1127"/>
                  </a:lnTo>
                  <a:lnTo>
                    <a:pt x="1170" y="1114"/>
                  </a:lnTo>
                  <a:lnTo>
                    <a:pt x="1184" y="1096"/>
                  </a:lnTo>
                  <a:lnTo>
                    <a:pt x="1197" y="1076"/>
                  </a:lnTo>
                  <a:lnTo>
                    <a:pt x="1203" y="1057"/>
                  </a:lnTo>
                  <a:lnTo>
                    <a:pt x="1206" y="1034"/>
                  </a:lnTo>
                  <a:lnTo>
                    <a:pt x="1203" y="1012"/>
                  </a:lnTo>
                  <a:lnTo>
                    <a:pt x="1202" y="988"/>
                  </a:lnTo>
                  <a:lnTo>
                    <a:pt x="1203" y="962"/>
                  </a:lnTo>
                  <a:lnTo>
                    <a:pt x="1208" y="943"/>
                  </a:lnTo>
                  <a:lnTo>
                    <a:pt x="1214" y="922"/>
                  </a:lnTo>
                  <a:lnTo>
                    <a:pt x="1223" y="902"/>
                  </a:lnTo>
                  <a:lnTo>
                    <a:pt x="1235" y="889"/>
                  </a:lnTo>
                  <a:lnTo>
                    <a:pt x="1254" y="875"/>
                  </a:lnTo>
                  <a:lnTo>
                    <a:pt x="1278" y="866"/>
                  </a:lnTo>
                  <a:lnTo>
                    <a:pt x="1302" y="859"/>
                  </a:lnTo>
                  <a:lnTo>
                    <a:pt x="1325" y="853"/>
                  </a:lnTo>
                  <a:lnTo>
                    <a:pt x="1349" y="847"/>
                  </a:lnTo>
                  <a:lnTo>
                    <a:pt x="1380" y="841"/>
                  </a:lnTo>
                  <a:lnTo>
                    <a:pt x="1404" y="836"/>
                  </a:lnTo>
                  <a:lnTo>
                    <a:pt x="1430" y="829"/>
                  </a:lnTo>
                  <a:lnTo>
                    <a:pt x="1451" y="821"/>
                  </a:lnTo>
                  <a:lnTo>
                    <a:pt x="1472" y="812"/>
                  </a:lnTo>
                  <a:lnTo>
                    <a:pt x="1488" y="800"/>
                  </a:lnTo>
                  <a:lnTo>
                    <a:pt x="1503" y="788"/>
                  </a:lnTo>
                  <a:lnTo>
                    <a:pt x="1520" y="769"/>
                  </a:lnTo>
                  <a:lnTo>
                    <a:pt x="1530" y="751"/>
                  </a:lnTo>
                  <a:lnTo>
                    <a:pt x="1539" y="730"/>
                  </a:lnTo>
                  <a:lnTo>
                    <a:pt x="1544" y="703"/>
                  </a:lnTo>
                  <a:lnTo>
                    <a:pt x="1541" y="681"/>
                  </a:lnTo>
                  <a:lnTo>
                    <a:pt x="1538" y="657"/>
                  </a:lnTo>
                  <a:lnTo>
                    <a:pt x="1530" y="628"/>
                  </a:lnTo>
                  <a:lnTo>
                    <a:pt x="1523" y="597"/>
                  </a:lnTo>
                  <a:lnTo>
                    <a:pt x="1515" y="568"/>
                  </a:lnTo>
                  <a:lnTo>
                    <a:pt x="1514" y="546"/>
                  </a:lnTo>
                  <a:lnTo>
                    <a:pt x="1514" y="525"/>
                  </a:lnTo>
                  <a:lnTo>
                    <a:pt x="1517" y="496"/>
                  </a:lnTo>
                  <a:lnTo>
                    <a:pt x="1524" y="472"/>
                  </a:lnTo>
                  <a:lnTo>
                    <a:pt x="1532" y="454"/>
                  </a:lnTo>
                  <a:lnTo>
                    <a:pt x="1542" y="436"/>
                  </a:lnTo>
                  <a:lnTo>
                    <a:pt x="1557" y="417"/>
                  </a:lnTo>
                  <a:lnTo>
                    <a:pt x="1573" y="397"/>
                  </a:lnTo>
                  <a:lnTo>
                    <a:pt x="1594" y="381"/>
                  </a:lnTo>
                  <a:lnTo>
                    <a:pt x="1617" y="368"/>
                  </a:lnTo>
                  <a:lnTo>
                    <a:pt x="1638" y="360"/>
                  </a:lnTo>
                  <a:lnTo>
                    <a:pt x="1659" y="354"/>
                  </a:lnTo>
                  <a:lnTo>
                    <a:pt x="1681" y="351"/>
                  </a:lnTo>
                  <a:lnTo>
                    <a:pt x="1708" y="351"/>
                  </a:lnTo>
                  <a:lnTo>
                    <a:pt x="1735" y="351"/>
                  </a:lnTo>
                  <a:close/>
                </a:path>
              </a:pathLst>
            </a:custGeom>
            <a:solidFill>
              <a:srgbClr val="008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917000" y="1663560"/>
              <a:ext cx="2010960" cy="11300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1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EXPRE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1874880" y="3230640"/>
            <a:ext cx="2743200" cy="2668680"/>
            <a:chOff x="1874880" y="3230640"/>
            <a:chExt cx="2743200" cy="2668680"/>
          </a:xfrm>
        </p:grpSpPr>
        <p:sp>
          <p:nvSpPr>
            <p:cNvPr id="112" name=""/>
            <p:cNvSpPr/>
            <p:nvPr/>
          </p:nvSpPr>
          <p:spPr>
            <a:xfrm>
              <a:off x="1874880" y="323064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9933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961280" y="4581360"/>
              <a:ext cx="1767240" cy="119124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2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SDAI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NVERSE attribut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47680" y="11430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very attribute which as an entity as its data type, establishes an entity relationship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52560" indent="-38088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In both directions!!!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-38088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By default the inverse cardinality is [0:?]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nverse attributes are declared following the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INVERSE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keyword.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INVERSE clause constrains the relationship in the </a:t>
            </a: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inverse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direction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52560" indent="-38088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n inverse attribute captures the relationship between the entity being referred to, and the named attribute of the referencing entity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NVERSE attributes (Example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</a:t>
            </a:r>
            <a:r>
              <a:rPr b="1" lang="en-GB" sz="1800" spc="-1" strike="noStrike">
                <a:solidFill>
                  <a:srgbClr val="66ff33"/>
                </a:solidFill>
                <a:latin typeface="Arial"/>
              </a:rPr>
              <a:t>analysis_model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INVERSE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component_elements : SET [1:?] OF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lement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FOR </a:t>
            </a:r>
            <a:r>
              <a:rPr b="1" lang="en-GB" sz="1800" spc="-1" strike="noStrike">
                <a:solidFill>
                  <a:srgbClr val="66ff33"/>
                </a:solidFill>
                <a:latin typeface="Arial"/>
              </a:rPr>
              <a:t>parent_model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component_nodes : SET [2:?] OF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node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FOR </a:t>
            </a:r>
            <a:r>
              <a:rPr b="1" lang="en-GB" sz="1800" spc="-1" strike="noStrike">
                <a:solidFill>
                  <a:srgbClr val="66ff33"/>
                </a:solidFill>
                <a:latin typeface="Arial"/>
              </a:rPr>
              <a:t>parent_model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node;</a:t>
            </a:r>
            <a:br>
              <a:rPr sz="1800"/>
            </a:b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node_name : label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66ff33"/>
                </a:solidFill>
                <a:latin typeface="Arial"/>
              </a:rPr>
              <a:t>parent_model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: </a:t>
            </a:r>
            <a:r>
              <a:rPr b="1" lang="en-GB" sz="1800" spc="-1" strike="noStrike">
                <a:solidFill>
                  <a:srgbClr val="66ff33"/>
                </a:solidFill>
                <a:latin typeface="Arial"/>
              </a:rPr>
              <a:t>analysis_model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UNIQUE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UR1 : node_name, parent_model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251600" y="3713040"/>
            <a:ext cx="5270400" cy="23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el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lement_name : lab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parent_model : </a:t>
            </a:r>
            <a:r>
              <a:rPr b="1" lang="en-GB" sz="1800" spc="-1" strike="noStrike">
                <a:solidFill>
                  <a:srgbClr val="66ff33"/>
                </a:solidFill>
                <a:latin typeface="Arial"/>
              </a:rPr>
              <a:t>analysis_model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UN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UR1 : element_name, parent_mod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2193840" y="2712960"/>
            <a:ext cx="3422520" cy="1025640"/>
            <a:chOff x="2193840" y="2712960"/>
            <a:chExt cx="3422520" cy="1025640"/>
          </a:xfrm>
        </p:grpSpPr>
        <p:sp>
          <p:nvSpPr>
            <p:cNvPr id="162" name=""/>
            <p:cNvSpPr/>
            <p:nvPr/>
          </p:nvSpPr>
          <p:spPr>
            <a:xfrm>
              <a:off x="2193840" y="3030480"/>
              <a:ext cx="663840" cy="708120"/>
            </a:xfrm>
            <a:prstGeom prst="upDownArrow">
              <a:avLst>
                <a:gd name="adj1" fmla="val 50000"/>
                <a:gd name="adj2" fmla="val 21235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937040" y="2712960"/>
              <a:ext cx="663840" cy="909720"/>
            </a:xfrm>
            <a:prstGeom prst="upDownArrow">
              <a:avLst>
                <a:gd name="adj1" fmla="val 50000"/>
                <a:gd name="adj2" fmla="val 27281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328120" y="3127320"/>
              <a:ext cx="328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3300"/>
                  </a:solidFill>
                  <a:latin typeface="Univers"/>
                </a:rPr>
                <a:t>mutual dependency!!!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5" name=""/>
          <p:cNvGraphicFramePr/>
          <p:nvPr/>
        </p:nvGraphicFramePr>
        <p:xfrm>
          <a:off x="47520" y="85680"/>
          <a:ext cx="9191880" cy="10522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520" y="85680"/>
                    <a:ext cx="9191880" cy="1052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7" name=""/>
          <p:cNvGraphicFramePr/>
          <p:nvPr/>
        </p:nvGraphicFramePr>
        <p:xfrm>
          <a:off x="9360" y="-4761000"/>
          <a:ext cx="9191880" cy="10522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60" y="-4761000"/>
                    <a:ext cx="9191880" cy="1052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PRESS-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460320" y="1275840"/>
            <a:ext cx="5397480" cy="231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 Graphical form of EXR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sed to illustrated EXPRESS data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resents a limited subset of EXPRESS languag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8173800" y="4235400"/>
            <a:ext cx="6609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125360" y="3678120"/>
            <a:ext cx="287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7578720" y="5235480"/>
            <a:ext cx="1235160" cy="552600"/>
            <a:chOff x="7578720" y="5235480"/>
            <a:chExt cx="1235160" cy="552600"/>
          </a:xfrm>
        </p:grpSpPr>
        <p:sp>
          <p:nvSpPr>
            <p:cNvPr id="174" name=""/>
            <p:cNvSpPr/>
            <p:nvPr/>
          </p:nvSpPr>
          <p:spPr>
            <a:xfrm>
              <a:off x="7578720" y="5403600"/>
              <a:ext cx="12351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TR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083440" y="523548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8672400" y="5411520"/>
              <a:ext cx="0" cy="376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3063960" y="4978440"/>
            <a:ext cx="4004280" cy="1009440"/>
            <a:chOff x="3063960" y="4978440"/>
            <a:chExt cx="4004280" cy="1009440"/>
          </a:xfrm>
        </p:grpSpPr>
        <p:sp>
          <p:nvSpPr>
            <p:cNvPr id="178" name=""/>
            <p:cNvSpPr/>
            <p:nvPr/>
          </p:nvSpPr>
          <p:spPr>
            <a:xfrm>
              <a:off x="3304440" y="5145120"/>
              <a:ext cx="916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063960" y="530532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440600" y="4978440"/>
              <a:ext cx="751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5311800" y="5110200"/>
              <a:ext cx="1756440" cy="374400"/>
              <a:chOff x="5311800" y="5110200"/>
              <a:chExt cx="1756440" cy="374400"/>
            </a:xfrm>
          </p:grpSpPr>
          <p:sp>
            <p:nvSpPr>
              <p:cNvPr id="182" name=""/>
              <p:cNvSpPr/>
              <p:nvPr/>
            </p:nvSpPr>
            <p:spPr>
              <a:xfrm>
                <a:off x="5311800" y="526248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468760" y="5113440"/>
                <a:ext cx="159948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si_unit_nam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flipV="1">
                <a:off x="6969960" y="5110200"/>
                <a:ext cx="0" cy="374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5325840" y="5613120"/>
              <a:ext cx="1339200" cy="374760"/>
              <a:chOff x="5325840" y="5613120"/>
              <a:chExt cx="1339200" cy="374760"/>
            </a:xfrm>
          </p:grpSpPr>
          <p:sp>
            <p:nvSpPr>
              <p:cNvPr id="186" name=""/>
              <p:cNvSpPr/>
              <p:nvPr/>
            </p:nvSpPr>
            <p:spPr>
              <a:xfrm>
                <a:off x="5325840" y="575172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5482800" y="5616720"/>
                <a:ext cx="118224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si_prefi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flipV="1">
                <a:off x="6567120" y="5613120"/>
                <a:ext cx="0" cy="37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89" name=""/>
            <p:cNvCxnSpPr>
              <a:stCxn id="178" idx="3"/>
              <a:endCxn id="182" idx="2"/>
            </p:cNvCxnSpPr>
            <p:nvPr/>
          </p:nvCxnSpPr>
          <p:spPr>
            <a:xfrm flipV="1">
              <a:off x="4250880" y="5338080"/>
              <a:ext cx="1046520" cy="198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0" name=""/>
            <p:cNvCxnSpPr>
              <a:stCxn id="178" idx="2"/>
              <a:endCxn id="186" idx="2"/>
            </p:cNvCxnSpPr>
            <p:nvPr/>
          </p:nvCxnSpPr>
          <p:spPr>
            <a:xfrm flipH="1" rot="16200000">
              <a:off x="4415400" y="4932360"/>
              <a:ext cx="243360" cy="1548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1" name=""/>
            <p:cNvSpPr/>
            <p:nvPr/>
          </p:nvSpPr>
          <p:spPr>
            <a:xfrm>
              <a:off x="4440240" y="5469120"/>
              <a:ext cx="739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efi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92" name=""/>
          <p:cNvCxnSpPr>
            <a:stCxn id="193" idx="2"/>
            <a:endCxn id="179" idx="2"/>
          </p:cNvCxnSpPr>
          <p:nvPr/>
        </p:nvCxnSpPr>
        <p:spPr>
          <a:xfrm flipH="1" rot="16200000">
            <a:off x="2482920" y="4846320"/>
            <a:ext cx="770400" cy="33552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sp>
        <p:nvSpPr>
          <p:cNvPr id="194" name=""/>
          <p:cNvSpPr/>
          <p:nvPr/>
        </p:nvSpPr>
        <p:spPr>
          <a:xfrm>
            <a:off x="312840" y="133812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1131840" y="2548080"/>
            <a:ext cx="690480" cy="592560"/>
            <a:chOff x="1131840" y="2548080"/>
            <a:chExt cx="690480" cy="592560"/>
          </a:xfrm>
        </p:grpSpPr>
        <p:sp>
          <p:nvSpPr>
            <p:cNvPr id="196" name=""/>
            <p:cNvSpPr/>
            <p:nvPr/>
          </p:nvSpPr>
          <p:spPr>
            <a:xfrm>
              <a:off x="1131840" y="2770200"/>
              <a:ext cx="69048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382400" y="2548080"/>
              <a:ext cx="18684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1241280" y="2752200"/>
              <a:ext cx="0" cy="3884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99" name=""/>
          <p:cNvCxnSpPr>
            <a:stCxn id="194" idx="2"/>
            <a:endCxn id="197" idx="0"/>
          </p:cNvCxnSpPr>
          <p:nvPr/>
        </p:nvCxnSpPr>
        <p:spPr>
          <a:xfrm>
            <a:off x="1472760" y="1777680"/>
            <a:ext cx="3960" cy="756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200" name=""/>
          <p:cNvGrpSpPr/>
          <p:nvPr/>
        </p:nvGrpSpPr>
        <p:grpSpPr>
          <a:xfrm>
            <a:off x="1693800" y="3598920"/>
            <a:ext cx="1792440" cy="398880"/>
            <a:chOff x="1693800" y="3598920"/>
            <a:chExt cx="1792440" cy="398880"/>
          </a:xfrm>
        </p:grpSpPr>
        <p:sp>
          <p:nvSpPr>
            <p:cNvPr id="201" name=""/>
            <p:cNvSpPr/>
            <p:nvPr/>
          </p:nvSpPr>
          <p:spPr>
            <a:xfrm>
              <a:off x="1917000" y="3598920"/>
              <a:ext cx="1569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eriv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693800" y="370044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1720800" y="4189320"/>
            <a:ext cx="1734840" cy="398880"/>
            <a:chOff x="1720800" y="4189320"/>
            <a:chExt cx="1734840" cy="398880"/>
          </a:xfrm>
        </p:grpSpPr>
        <p:sp>
          <p:nvSpPr>
            <p:cNvPr id="193" name=""/>
            <p:cNvSpPr/>
            <p:nvPr/>
          </p:nvSpPr>
          <p:spPr>
            <a:xfrm>
              <a:off x="1944360" y="418932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720800" y="429084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05" name=""/>
          <p:cNvCxnSpPr>
            <a:stCxn id="196" idx="2"/>
            <a:endCxn id="204" idx="2"/>
          </p:cNvCxnSpPr>
          <p:nvPr/>
        </p:nvCxnSpPr>
        <p:spPr>
          <a:xfrm flipH="1" rot="16200000">
            <a:off x="988560" y="3667680"/>
            <a:ext cx="1205640" cy="2293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06" name=""/>
          <p:cNvCxnSpPr>
            <a:stCxn id="196" idx="2"/>
            <a:endCxn id="202" idx="2"/>
          </p:cNvCxnSpPr>
          <p:nvPr/>
        </p:nvCxnSpPr>
        <p:spPr>
          <a:xfrm flipH="1" rot="16200000">
            <a:off x="1271520" y="3385800"/>
            <a:ext cx="614880" cy="2023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07" name=""/>
          <p:cNvSpPr/>
          <p:nvPr/>
        </p:nvSpPr>
        <p:spPr>
          <a:xfrm>
            <a:off x="1438560" y="202392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85760" y="1665360"/>
            <a:ext cx="1033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424160" y="1674720"/>
            <a:ext cx="102960" cy="1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3960720" y="4056120"/>
            <a:ext cx="4189320" cy="508680"/>
            <a:chOff x="3960720" y="4056120"/>
            <a:chExt cx="4189320" cy="508680"/>
          </a:xfrm>
        </p:grpSpPr>
        <p:sp>
          <p:nvSpPr>
            <p:cNvPr id="211" name=""/>
            <p:cNvSpPr/>
            <p:nvPr/>
          </p:nvSpPr>
          <p:spPr>
            <a:xfrm>
              <a:off x="4197600" y="4165920"/>
              <a:ext cx="28994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ontext_dependent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960720" y="431172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183800" y="4056120"/>
              <a:ext cx="751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7111440" y="4424400"/>
              <a:ext cx="870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997760" y="43405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16" name=""/>
          <p:cNvCxnSpPr>
            <a:stCxn id="193" idx="3"/>
            <a:endCxn id="212" idx="2"/>
          </p:cNvCxnSpPr>
          <p:nvPr/>
        </p:nvCxnSpPr>
        <p:spPr>
          <a:xfrm>
            <a:off x="3484440" y="4401720"/>
            <a:ext cx="448560" cy="3960"/>
          </a:xfrm>
          <a:prstGeom prst="bentConnector3">
            <a:avLst>
              <a:gd name="adj1" fmla="val 51405"/>
            </a:avLst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217" name=""/>
          <p:cNvCxnSpPr>
            <a:stCxn id="171" idx="2"/>
            <a:endCxn id="175" idx="0"/>
          </p:cNvCxnSpPr>
          <p:nvPr/>
        </p:nvCxnSpPr>
        <p:spPr>
          <a:xfrm rot="5400000">
            <a:off x="8043120" y="4760640"/>
            <a:ext cx="577080" cy="345240"/>
          </a:xfrm>
          <a:prstGeom prst="bentConnector3">
            <a:avLst>
              <a:gd name="adj1" fmla="val 49812"/>
            </a:avLst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imple &amp; Defined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370320" y="177948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_nu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878080" y="2619360"/>
            <a:ext cx="6609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730840" y="43909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23" idx="2"/>
            <a:endCxn id="221" idx="2"/>
          </p:cNvCxnSpPr>
          <p:nvPr/>
        </p:nvCxnSpPr>
        <p:spPr>
          <a:xfrm flipH="1" rot="16200000">
            <a:off x="2640240" y="1392120"/>
            <a:ext cx="2085120" cy="4065840"/>
          </a:xfrm>
          <a:prstGeom prst="bentConnector2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224" name=""/>
          <p:cNvSpPr/>
          <p:nvPr/>
        </p:nvSpPr>
        <p:spPr>
          <a:xfrm>
            <a:off x="5688000" y="27558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5" name=""/>
          <p:cNvCxnSpPr>
            <a:stCxn id="223" idx="3"/>
            <a:endCxn id="226" idx="2"/>
          </p:cNvCxnSpPr>
          <p:nvPr/>
        </p:nvCxnSpPr>
        <p:spPr>
          <a:xfrm>
            <a:off x="3025800" y="2155320"/>
            <a:ext cx="2370960" cy="10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26" name=""/>
          <p:cNvSpPr/>
          <p:nvPr/>
        </p:nvSpPr>
        <p:spPr>
          <a:xfrm>
            <a:off x="5410080" y="20797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89080" y="1943280"/>
            <a:ext cx="27223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034640" y="131760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275800" y="1317600"/>
            <a:ext cx="18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Data Typ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935680" y="4229280"/>
            <a:ext cx="5493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471480" y="2428920"/>
            <a:ext cx="13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_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5440" y="4052880"/>
            <a:ext cx="184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_descri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316320" y="131760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Attrib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309800" y="190800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250400" y="4162320"/>
            <a:ext cx="12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Defi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5600880" y="1947600"/>
            <a:ext cx="1363320" cy="376200"/>
            <a:chOff x="5600880" y="1947600"/>
            <a:chExt cx="1363320" cy="376200"/>
          </a:xfrm>
        </p:grpSpPr>
        <p:sp>
          <p:nvSpPr>
            <p:cNvPr id="236" name=""/>
            <p:cNvSpPr/>
            <p:nvPr/>
          </p:nvSpPr>
          <p:spPr>
            <a:xfrm>
              <a:off x="5600880" y="1947960"/>
              <a:ext cx="13633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INTEG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V="1">
              <a:off x="6823080" y="1947600"/>
              <a:ext cx="0" cy="37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8" name=""/>
          <p:cNvSpPr/>
          <p:nvPr/>
        </p:nvSpPr>
        <p:spPr>
          <a:xfrm>
            <a:off x="2338560" y="2149560"/>
            <a:ext cx="28728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9" name=""/>
          <p:cNvCxnSpPr>
            <a:stCxn id="238" idx="2"/>
            <a:endCxn id="224" idx="2"/>
          </p:cNvCxnSpPr>
          <p:nvPr/>
        </p:nvCxnSpPr>
        <p:spPr>
          <a:xfrm flipH="1" rot="16200000">
            <a:off x="3836880" y="996120"/>
            <a:ext cx="481680" cy="31914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240" name=""/>
          <p:cNvGrpSpPr/>
          <p:nvPr/>
        </p:nvGrpSpPr>
        <p:grpSpPr>
          <a:xfrm>
            <a:off x="5629320" y="3246480"/>
            <a:ext cx="1234800" cy="744480"/>
            <a:chOff x="5629320" y="3246480"/>
            <a:chExt cx="1234800" cy="744480"/>
          </a:xfrm>
        </p:grpSpPr>
        <p:sp>
          <p:nvSpPr>
            <p:cNvPr id="241" name=""/>
            <p:cNvSpPr/>
            <p:nvPr/>
          </p:nvSpPr>
          <p:spPr>
            <a:xfrm>
              <a:off x="5629320" y="3414960"/>
              <a:ext cx="123480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TR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134040" y="32464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>
              <a:off x="6723000" y="3422520"/>
              <a:ext cx="0" cy="37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134040" y="38386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45" name=""/>
          <p:cNvCxnSpPr>
            <a:stCxn id="229" idx="0"/>
            <a:endCxn id="244" idx="4"/>
          </p:cNvCxnSpPr>
          <p:nvPr/>
        </p:nvCxnSpPr>
        <p:spPr>
          <a:xfrm flipV="1">
            <a:off x="6210000" y="4005000"/>
            <a:ext cx="1080" cy="2102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46" name=""/>
          <p:cNvCxnSpPr>
            <a:stCxn id="220" idx="2"/>
            <a:endCxn id="242" idx="0"/>
          </p:cNvCxnSpPr>
          <p:nvPr/>
        </p:nvCxnSpPr>
        <p:spPr>
          <a:xfrm flipH="1" rot="16200000">
            <a:off x="6107040" y="3129480"/>
            <a:ext cx="203760" cy="2520"/>
          </a:xfrm>
          <a:prstGeom prst="bentConnector3">
            <a:avLst>
              <a:gd name="adj1" fmla="val 49911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47" name=""/>
          <p:cNvSpPr/>
          <p:nvPr/>
        </p:nvSpPr>
        <p:spPr>
          <a:xfrm>
            <a:off x="7250400" y="2658960"/>
            <a:ext cx="12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Defi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309800" y="336708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-119160" y="4707000"/>
            <a:ext cx="48740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structural_frame_item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_number : INTEGE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_name : lab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_description : OPTIONAL text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604160" y="3486240"/>
            <a:ext cx="230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Arial"/>
              </a:rPr>
              <a:t>Optional attribu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ntity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438360" y="188136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stCxn id="254" idx="3"/>
            <a:endCxn id="252" idx="2"/>
          </p:cNvCxnSpPr>
          <p:nvPr/>
        </p:nvCxnSpPr>
        <p:spPr>
          <a:xfrm>
            <a:off x="1825200" y="1952280"/>
            <a:ext cx="159948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55" name=""/>
          <p:cNvSpPr/>
          <p:nvPr/>
        </p:nvSpPr>
        <p:spPr>
          <a:xfrm>
            <a:off x="1987560" y="1590840"/>
            <a:ext cx="133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617280" y="1739880"/>
            <a:ext cx="2858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mensional_expon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285480" y="1739880"/>
            <a:ext cx="1511280" cy="411120"/>
            <a:chOff x="285480" y="1739880"/>
            <a:chExt cx="1511280" cy="411120"/>
          </a:xfrm>
        </p:grpSpPr>
        <p:sp>
          <p:nvSpPr>
            <p:cNvPr id="254" name=""/>
            <p:cNvSpPr/>
            <p:nvPr/>
          </p:nvSpPr>
          <p:spPr>
            <a:xfrm>
              <a:off x="285480" y="173988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17240" y="2063520"/>
              <a:ext cx="10116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500120" y="2063520"/>
              <a:ext cx="10116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223920" y="3537000"/>
            <a:ext cx="4368600" cy="28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named_uni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ensions : dimensional_exponent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dimensional_exponent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ength_exponent : RE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ss_exponent : RE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_exponent : RE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191920" y="3456000"/>
            <a:ext cx="186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ength_ex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2" name=""/>
          <p:cNvCxnSpPr>
            <a:stCxn id="256" idx="2"/>
            <a:endCxn id="263" idx="2"/>
          </p:cNvCxnSpPr>
          <p:nvPr/>
        </p:nvCxnSpPr>
        <p:spPr>
          <a:xfrm flipH="1" rot="16200000">
            <a:off x="5782320" y="1442880"/>
            <a:ext cx="1129320" cy="26024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64" name=""/>
          <p:cNvSpPr/>
          <p:nvPr/>
        </p:nvSpPr>
        <p:spPr>
          <a:xfrm>
            <a:off x="485280" y="118728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865160" y="118728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Attrib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754080" y="1187280"/>
            <a:ext cx="256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Entity Data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551920" y="2921040"/>
            <a:ext cx="178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ss_ex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026400" y="2371680"/>
            <a:ext cx="167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_ex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9" name=""/>
          <p:cNvCxnSpPr>
            <a:stCxn id="270" idx="2"/>
            <a:endCxn id="271" idx="2"/>
          </p:cNvCxnSpPr>
          <p:nvPr/>
        </p:nvCxnSpPr>
        <p:spPr>
          <a:xfrm flipH="1" rot="16200000">
            <a:off x="5022000" y="1219320"/>
            <a:ext cx="1694520" cy="35568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70" name=""/>
          <p:cNvSpPr/>
          <p:nvPr/>
        </p:nvSpPr>
        <p:spPr>
          <a:xfrm>
            <a:off x="3954600" y="1992240"/>
            <a:ext cx="2728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2" name=""/>
          <p:cNvCxnSpPr>
            <a:stCxn id="273" idx="2"/>
            <a:endCxn id="274" idx="2"/>
          </p:cNvCxnSpPr>
          <p:nvPr/>
        </p:nvCxnSpPr>
        <p:spPr>
          <a:xfrm flipH="1" rot="16200000">
            <a:off x="6483960" y="1611360"/>
            <a:ext cx="624600" cy="17028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73" name=""/>
          <p:cNvSpPr/>
          <p:nvPr/>
        </p:nvSpPr>
        <p:spPr>
          <a:xfrm>
            <a:off x="5808600" y="1992240"/>
            <a:ext cx="273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823160" y="3117960"/>
            <a:ext cx="94464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8669160" y="3117600"/>
            <a:ext cx="0" cy="37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662960" y="323208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661160" y="376884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824960" y="3622680"/>
            <a:ext cx="94428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8642520" y="3622320"/>
            <a:ext cx="0" cy="37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7661160" y="2582640"/>
            <a:ext cx="1123920" cy="376200"/>
            <a:chOff x="7661160" y="2582640"/>
            <a:chExt cx="1123920" cy="376200"/>
          </a:xfrm>
        </p:grpSpPr>
        <p:sp>
          <p:nvSpPr>
            <p:cNvPr id="274" name=""/>
            <p:cNvSpPr/>
            <p:nvPr/>
          </p:nvSpPr>
          <p:spPr>
            <a:xfrm>
              <a:off x="7661160" y="26989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840440" y="2583000"/>
              <a:ext cx="9446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V="1">
              <a:off x="8658000" y="2582640"/>
              <a:ext cx="0" cy="37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upertypes &amp; Sub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111320" y="1268280"/>
            <a:ext cx="27223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919080" y="2400480"/>
            <a:ext cx="3119400" cy="626040"/>
            <a:chOff x="919080" y="2400480"/>
            <a:chExt cx="3119400" cy="626040"/>
          </a:xfrm>
        </p:grpSpPr>
        <p:sp>
          <p:nvSpPr>
            <p:cNvPr id="285" name=""/>
            <p:cNvSpPr/>
            <p:nvPr/>
          </p:nvSpPr>
          <p:spPr>
            <a:xfrm>
              <a:off x="919080" y="2629080"/>
              <a:ext cx="311940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tructural_frame_produ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371680" y="24004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87" name=""/>
          <p:cNvCxnSpPr>
            <a:stCxn id="283" idx="2"/>
            <a:endCxn id="286" idx="0"/>
          </p:cNvCxnSpPr>
          <p:nvPr/>
        </p:nvCxnSpPr>
        <p:spPr>
          <a:xfrm rot="5400000">
            <a:off x="2136960" y="2035800"/>
            <a:ext cx="664200" cy="8640"/>
          </a:xfrm>
          <a:prstGeom prst="bentConnector3">
            <a:avLst>
              <a:gd name="adj1" fmla="val 50921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288" name=""/>
          <p:cNvSpPr/>
          <p:nvPr/>
        </p:nvSpPr>
        <p:spPr>
          <a:xfrm>
            <a:off x="2170080" y="1817640"/>
            <a:ext cx="31752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853800" y="1239840"/>
            <a:ext cx="166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Super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4052880" y="2411280"/>
            <a:ext cx="4834440" cy="1326600"/>
            <a:chOff x="4052880" y="2411280"/>
            <a:chExt cx="4834440" cy="1326600"/>
          </a:xfrm>
        </p:grpSpPr>
        <p:grpSp>
          <p:nvGrpSpPr>
            <p:cNvPr id="291" name=""/>
            <p:cNvGrpSpPr/>
            <p:nvPr/>
          </p:nvGrpSpPr>
          <p:grpSpPr>
            <a:xfrm>
              <a:off x="4052880" y="2411280"/>
              <a:ext cx="4834440" cy="762840"/>
              <a:chOff x="4052880" y="2411280"/>
              <a:chExt cx="4834440" cy="762840"/>
            </a:xfrm>
          </p:grpSpPr>
          <p:grpSp>
            <p:nvGrpSpPr>
              <p:cNvPr id="292" name=""/>
              <p:cNvGrpSpPr/>
              <p:nvPr/>
            </p:nvGrpSpPr>
            <p:grpSpPr>
              <a:xfrm>
                <a:off x="5656320" y="2470320"/>
                <a:ext cx="3231000" cy="703800"/>
                <a:chOff x="5656320" y="2470320"/>
                <a:chExt cx="3231000" cy="703800"/>
              </a:xfrm>
            </p:grpSpPr>
            <p:sp>
              <p:nvSpPr>
                <p:cNvPr id="293" name=""/>
                <p:cNvSpPr/>
                <p:nvPr/>
              </p:nvSpPr>
              <p:spPr>
                <a:xfrm>
                  <a:off x="5873400" y="2470320"/>
                  <a:ext cx="3013920" cy="70380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</a:rPr>
                    <a:t>structural_frame_product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</a:rPr>
                    <a:t>_with_material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5656320" y="2746440"/>
                  <a:ext cx="181080" cy="187200"/>
                </a:xfrm>
                <a:prstGeom prst="ellipse">
                  <a:avLst/>
                </a:prstGeom>
                <a:solidFill>
                  <a:srgbClr val="ffffff"/>
                </a:solidFill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295" name=""/>
              <p:cNvCxnSpPr>
                <a:stCxn id="285" idx="3"/>
                <a:endCxn id="294" idx="2"/>
              </p:cNvCxnSpPr>
              <p:nvPr/>
            </p:nvCxnSpPr>
            <p:spPr>
              <a:xfrm flipV="1">
                <a:off x="4052880" y="2839680"/>
                <a:ext cx="1575360" cy="2160"/>
              </a:xfrm>
              <a:prstGeom prst="bentConnector3">
                <a:avLst>
                  <a:gd name="adj1" fmla="val 50400"/>
                </a:avLst>
              </a:prstGeom>
              <a:ln w="76320">
                <a:solidFill>
                  <a:srgbClr val="000000"/>
                </a:solidFill>
                <a:miter/>
              </a:ln>
            </p:spPr>
          </p:cxnSp>
          <p:sp>
            <p:nvSpPr>
              <p:cNvPr id="296" name=""/>
              <p:cNvSpPr/>
              <p:nvPr/>
            </p:nvSpPr>
            <p:spPr>
              <a:xfrm>
                <a:off x="4454640" y="2411280"/>
                <a:ext cx="100584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Arial"/>
                  </a:rPr>
                  <a:t>ANDO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7" name=""/>
            <p:cNvSpPr/>
            <p:nvPr/>
          </p:nvSpPr>
          <p:spPr>
            <a:xfrm>
              <a:off x="6691680" y="3278160"/>
              <a:ext cx="138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ffff"/>
                  </a:solidFill>
                  <a:latin typeface="Arial"/>
                </a:rPr>
                <a:t>Subtyp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313560" y="3068280"/>
            <a:ext cx="2851200" cy="2788560"/>
            <a:chOff x="313560" y="3068280"/>
            <a:chExt cx="2851200" cy="2788560"/>
          </a:xfrm>
        </p:grpSpPr>
        <p:grpSp>
          <p:nvGrpSpPr>
            <p:cNvPr id="299" name=""/>
            <p:cNvGrpSpPr/>
            <p:nvPr/>
          </p:nvGrpSpPr>
          <p:grpSpPr>
            <a:xfrm>
              <a:off x="313560" y="3068280"/>
              <a:ext cx="2166120" cy="2788560"/>
              <a:chOff x="313560" y="3068280"/>
              <a:chExt cx="2166120" cy="2788560"/>
            </a:xfrm>
          </p:grpSpPr>
          <p:grpSp>
            <p:nvGrpSpPr>
              <p:cNvPr id="300" name=""/>
              <p:cNvGrpSpPr/>
              <p:nvPr/>
            </p:nvGrpSpPr>
            <p:grpSpPr>
              <a:xfrm>
                <a:off x="949680" y="4068720"/>
                <a:ext cx="858240" cy="398880"/>
                <a:chOff x="949680" y="4068720"/>
                <a:chExt cx="858240" cy="39888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949680" y="4068720"/>
                  <a:ext cx="619560" cy="39888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</a:rPr>
                    <a:t>part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1620720" y="4170240"/>
                  <a:ext cx="187200" cy="187560"/>
                </a:xfrm>
                <a:prstGeom prst="ellipse">
                  <a:avLst/>
                </a:prstGeom>
                <a:solidFill>
                  <a:srgbClr val="ffffff"/>
                </a:solidFill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573480" y="3541680"/>
                <a:ext cx="1234440" cy="398880"/>
                <a:chOff x="573480" y="3541680"/>
                <a:chExt cx="1234440" cy="39888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573480" y="3541680"/>
                  <a:ext cx="1002240" cy="39888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</a:rPr>
                    <a:t>coating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1620720" y="3657600"/>
                  <a:ext cx="187200" cy="187200"/>
                </a:xfrm>
                <a:prstGeom prst="ellipse">
                  <a:avLst/>
                </a:prstGeom>
                <a:solidFill>
                  <a:srgbClr val="ffffff"/>
                </a:solidFill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472320" y="4589640"/>
                <a:ext cx="1335240" cy="398880"/>
                <a:chOff x="472320" y="4589640"/>
                <a:chExt cx="1335240" cy="39888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472320" y="4589640"/>
                  <a:ext cx="1101240" cy="39888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</a:rPr>
                    <a:t>fastener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1620360" y="4707000"/>
                  <a:ext cx="187200" cy="187200"/>
                </a:xfrm>
                <a:prstGeom prst="ellipse">
                  <a:avLst/>
                </a:prstGeom>
                <a:solidFill>
                  <a:srgbClr val="ffffff"/>
                </a:solidFill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9" name=""/>
              <p:cNvSpPr/>
              <p:nvPr/>
            </p:nvSpPr>
            <p:spPr>
              <a:xfrm>
                <a:off x="2123640" y="3276720"/>
                <a:ext cx="3232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10" name=""/>
              <p:cNvCxnSpPr>
                <a:stCxn id="285" idx="2"/>
                <a:endCxn id="305" idx="6"/>
              </p:cNvCxnSpPr>
              <p:nvPr/>
            </p:nvCxnSpPr>
            <p:spPr>
              <a:xfrm rot="5400000">
                <a:off x="1816920" y="3088440"/>
                <a:ext cx="682920" cy="643320"/>
              </a:xfrm>
              <a:prstGeom prst="bentConnector2">
                <a:avLst/>
              </a:prstGeom>
              <a:ln w="76320">
                <a:solidFill>
                  <a:srgbClr val="000000"/>
                </a:solidFill>
                <a:miter/>
              </a:ln>
            </p:spPr>
          </p:cxnSp>
          <p:cxnSp>
            <p:nvCxnSpPr>
              <p:cNvPr id="311" name=""/>
              <p:cNvCxnSpPr>
                <a:stCxn id="285" idx="2"/>
                <a:endCxn id="302" idx="6"/>
              </p:cNvCxnSpPr>
              <p:nvPr/>
            </p:nvCxnSpPr>
            <p:spPr>
              <a:xfrm rot="5400000">
                <a:off x="1560240" y="3344760"/>
                <a:ext cx="1196280" cy="643320"/>
              </a:xfrm>
              <a:prstGeom prst="bentConnector2">
                <a:avLst/>
              </a:prstGeom>
              <a:ln w="76320">
                <a:solidFill>
                  <a:srgbClr val="000000"/>
                </a:solidFill>
                <a:miter/>
              </a:ln>
            </p:spPr>
          </p:cxnSp>
          <p:cxnSp>
            <p:nvCxnSpPr>
              <p:cNvPr id="312" name=""/>
              <p:cNvCxnSpPr>
                <a:stCxn id="285" idx="2"/>
                <a:endCxn id="308" idx="6"/>
              </p:cNvCxnSpPr>
              <p:nvPr/>
            </p:nvCxnSpPr>
            <p:spPr>
              <a:xfrm rot="5400000">
                <a:off x="1292040" y="3612960"/>
                <a:ext cx="1732680" cy="643320"/>
              </a:xfrm>
              <a:prstGeom prst="bentConnector2">
                <a:avLst/>
              </a:prstGeom>
              <a:ln w="76320">
                <a:solidFill>
                  <a:srgbClr val="000000"/>
                </a:solidFill>
                <a:miter/>
              </a:ln>
            </p:spPr>
          </p:cxnSp>
          <p:grpSp>
            <p:nvGrpSpPr>
              <p:cNvPr id="313" name=""/>
              <p:cNvGrpSpPr/>
              <p:nvPr/>
            </p:nvGrpSpPr>
            <p:grpSpPr>
              <a:xfrm>
                <a:off x="313560" y="5153040"/>
                <a:ext cx="1479960" cy="703800"/>
                <a:chOff x="313560" y="5153040"/>
                <a:chExt cx="1479960" cy="703800"/>
              </a:xfrm>
            </p:grpSpPr>
            <p:sp>
              <p:nvSpPr>
                <p:cNvPr id="314" name=""/>
                <p:cNvSpPr/>
                <p:nvPr/>
              </p:nvSpPr>
              <p:spPr>
                <a:xfrm>
                  <a:off x="313560" y="5153040"/>
                  <a:ext cx="1258200" cy="70380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</a:rPr>
                    <a:t>(ABS)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</a:rPr>
                    <a:t>assembly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1606320" y="5443200"/>
                  <a:ext cx="187200" cy="187200"/>
                </a:xfrm>
                <a:prstGeom prst="ellipse">
                  <a:avLst/>
                </a:prstGeom>
                <a:solidFill>
                  <a:srgbClr val="ffffff"/>
                </a:solidFill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316" name=""/>
              <p:cNvCxnSpPr>
                <a:stCxn id="285" idx="2"/>
                <a:endCxn id="315" idx="6"/>
              </p:cNvCxnSpPr>
              <p:nvPr/>
            </p:nvCxnSpPr>
            <p:spPr>
              <a:xfrm rot="5400000">
                <a:off x="916200" y="3974040"/>
                <a:ext cx="2469240" cy="658080"/>
              </a:xfrm>
              <a:prstGeom prst="bentConnector2">
                <a:avLst/>
              </a:prstGeom>
              <a:ln w="7632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317" name=""/>
            <p:cNvSpPr/>
            <p:nvPr/>
          </p:nvSpPr>
          <p:spPr>
            <a:xfrm rot="16200000">
              <a:off x="2159280" y="4400640"/>
              <a:ext cx="155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ffff"/>
                  </a:solidFill>
                  <a:latin typeface="Arial"/>
                </a:rPr>
                <a:t>Subtyp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2824560" y="2097000"/>
            <a:ext cx="13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Sub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031920" y="3997440"/>
            <a:ext cx="6287040" cy="22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structural_frame_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UPERTYPE OF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ONEOF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(assembly,coating, part, fastener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structural_frame_product_with_materi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UBTYP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OF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(structural_frame_item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ife_cycle_stage : OPTIONAL lab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numeration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2847960" y="1933560"/>
            <a:ext cx="4005000" cy="1009440"/>
            <a:chOff x="2847960" y="1933560"/>
            <a:chExt cx="4005000" cy="1009440"/>
          </a:xfrm>
        </p:grpSpPr>
        <p:sp>
          <p:nvSpPr>
            <p:cNvPr id="322" name=""/>
            <p:cNvSpPr/>
            <p:nvPr/>
          </p:nvSpPr>
          <p:spPr>
            <a:xfrm>
              <a:off x="3088800" y="2100240"/>
              <a:ext cx="916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847960" y="226044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224960" y="1933560"/>
              <a:ext cx="751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5" name=""/>
            <p:cNvGrpSpPr/>
            <p:nvPr/>
          </p:nvGrpSpPr>
          <p:grpSpPr>
            <a:xfrm>
              <a:off x="5096160" y="2065320"/>
              <a:ext cx="1756800" cy="374400"/>
              <a:chOff x="5096160" y="2065320"/>
              <a:chExt cx="1756800" cy="374400"/>
            </a:xfrm>
          </p:grpSpPr>
          <p:sp>
            <p:nvSpPr>
              <p:cNvPr id="326" name=""/>
              <p:cNvSpPr/>
              <p:nvPr/>
            </p:nvSpPr>
            <p:spPr>
              <a:xfrm>
                <a:off x="5096160" y="221760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5253120" y="2068560"/>
                <a:ext cx="159984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si_unit_nam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flipV="1">
                <a:off x="6754680" y="2065320"/>
                <a:ext cx="0" cy="374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5110200" y="2568240"/>
              <a:ext cx="1339920" cy="374760"/>
              <a:chOff x="5110200" y="2568240"/>
              <a:chExt cx="1339920" cy="374760"/>
            </a:xfrm>
          </p:grpSpPr>
          <p:sp>
            <p:nvSpPr>
              <p:cNvPr id="330" name=""/>
              <p:cNvSpPr/>
              <p:nvPr/>
            </p:nvSpPr>
            <p:spPr>
              <a:xfrm>
                <a:off x="5110200" y="270684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5267520" y="2571840"/>
                <a:ext cx="118260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si_prefi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flipV="1">
                <a:off x="6351840" y="2568240"/>
                <a:ext cx="0" cy="37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333" name=""/>
            <p:cNvCxnSpPr>
              <a:stCxn id="322" idx="3"/>
              <a:endCxn id="326" idx="2"/>
            </p:cNvCxnSpPr>
            <p:nvPr/>
          </p:nvCxnSpPr>
          <p:spPr>
            <a:xfrm flipV="1">
              <a:off x="4035600" y="2293200"/>
              <a:ext cx="1046880" cy="198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34" name=""/>
            <p:cNvCxnSpPr>
              <a:stCxn id="322" idx="2"/>
              <a:endCxn id="330" idx="2"/>
            </p:cNvCxnSpPr>
            <p:nvPr/>
          </p:nvCxnSpPr>
          <p:spPr>
            <a:xfrm flipH="1" rot="16200000">
              <a:off x="4200840" y="1887120"/>
              <a:ext cx="243360" cy="15487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335" name=""/>
            <p:cNvSpPr/>
            <p:nvPr/>
          </p:nvSpPr>
          <p:spPr>
            <a:xfrm>
              <a:off x="4224960" y="2424240"/>
              <a:ext cx="739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efi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6" name=""/>
          <p:cNvGrpSpPr/>
          <p:nvPr/>
        </p:nvGrpSpPr>
        <p:grpSpPr>
          <a:xfrm>
            <a:off x="1020600" y="1247760"/>
            <a:ext cx="1511280" cy="411120"/>
            <a:chOff x="1020600" y="1247760"/>
            <a:chExt cx="1511280" cy="411120"/>
          </a:xfrm>
        </p:grpSpPr>
        <p:sp>
          <p:nvSpPr>
            <p:cNvPr id="337" name=""/>
            <p:cNvSpPr/>
            <p:nvPr/>
          </p:nvSpPr>
          <p:spPr>
            <a:xfrm>
              <a:off x="1020600" y="124776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152360" y="1571400"/>
              <a:ext cx="10116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235240" y="1571400"/>
              <a:ext cx="10116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40" name=""/>
          <p:cNvCxnSpPr>
            <a:stCxn id="339" idx="2"/>
            <a:endCxn id="323" idx="2"/>
          </p:cNvCxnSpPr>
          <p:nvPr/>
        </p:nvCxnSpPr>
        <p:spPr>
          <a:xfrm flipH="1" rot="16200000">
            <a:off x="2205000" y="1739520"/>
            <a:ext cx="696240" cy="5342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41" name=""/>
          <p:cNvSpPr/>
          <p:nvPr/>
        </p:nvSpPr>
        <p:spPr>
          <a:xfrm>
            <a:off x="1917360" y="18018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970680" y="2068560"/>
            <a:ext cx="207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Enumer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Data Ty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95120" y="2602080"/>
            <a:ext cx="87505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si_unit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UBTYPE OF (named_unit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efix : OPTIONAL si_prefix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 :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i_unit_nam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YPE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i_unit_nam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= ENUMERATION OF (METRE, GRAM,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COND, AMPER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KELVIN, MOLE, CANDELA, RADIAN, STERADIAN, HERTZ, NEWTON, PASCAL, JOULE, WATT, COULOMB, VOLT, FARAD, OHM, SIEMENS, WEBER, TESLA, HENRY, DEGREE_CELSIUS, LUMEN, LUX, BECQUEREL, GRAY, SIEVERT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elect Data Types (1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335920" y="168588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25400" y="1720800"/>
            <a:ext cx="188928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asure_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629080" y="1825560"/>
            <a:ext cx="19188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V="1">
            <a:off x="865080" y="1703520"/>
            <a:ext cx="0" cy="388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9" name=""/>
          <p:cNvCxnSpPr>
            <a:stCxn id="345" idx="1"/>
            <a:endCxn id="347" idx="6"/>
          </p:cNvCxnSpPr>
          <p:nvPr/>
        </p:nvCxnSpPr>
        <p:spPr>
          <a:xfrm flipH="1">
            <a:off x="2835000" y="1898280"/>
            <a:ext cx="2473920" cy="20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50" name=""/>
          <p:cNvSpPr/>
          <p:nvPr/>
        </p:nvSpPr>
        <p:spPr>
          <a:xfrm>
            <a:off x="3112560" y="151776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208480" y="2013120"/>
            <a:ext cx="1033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40520" y="3376440"/>
            <a:ext cx="77652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052640" y="31910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514520" y="3376440"/>
            <a:ext cx="144360" cy="390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6" idx="2"/>
            <a:endCxn id="353" idx="0"/>
          </p:cNvCxnSpPr>
          <p:nvPr/>
        </p:nvCxnSpPr>
        <p:spPr>
          <a:xfrm>
            <a:off x="1123560" y="2975040"/>
            <a:ext cx="5400" cy="202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57" name=""/>
          <p:cNvSpPr/>
          <p:nvPr/>
        </p:nvSpPr>
        <p:spPr>
          <a:xfrm>
            <a:off x="1112760" y="377496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216720" y="2565360"/>
            <a:ext cx="2002680" cy="368280"/>
            <a:chOff x="216720" y="2565360"/>
            <a:chExt cx="2002680" cy="368280"/>
          </a:xfrm>
        </p:grpSpPr>
        <p:sp>
          <p:nvSpPr>
            <p:cNvPr id="356" name=""/>
            <p:cNvSpPr/>
            <p:nvPr/>
          </p:nvSpPr>
          <p:spPr>
            <a:xfrm>
              <a:off x="216720" y="2565360"/>
              <a:ext cx="181440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ength_meas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066760" y="2697120"/>
              <a:ext cx="15264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0" name=""/>
          <p:cNvSpPr/>
          <p:nvPr/>
        </p:nvSpPr>
        <p:spPr>
          <a:xfrm>
            <a:off x="2336760" y="2006640"/>
            <a:ext cx="21744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1" name=""/>
          <p:cNvCxnSpPr>
            <a:stCxn id="360" idx="2"/>
            <a:endCxn id="359" idx="6"/>
          </p:cNvCxnSpPr>
          <p:nvPr/>
        </p:nvCxnSpPr>
        <p:spPr>
          <a:xfrm rot="5400000">
            <a:off x="2006640" y="2334240"/>
            <a:ext cx="665640" cy="2134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62" name=""/>
          <p:cNvCxnSpPr>
            <a:stCxn id="360" idx="2"/>
            <a:endCxn id="363" idx="6"/>
          </p:cNvCxnSpPr>
          <p:nvPr/>
        </p:nvCxnSpPr>
        <p:spPr>
          <a:xfrm rot="5400000">
            <a:off x="1168200" y="3172320"/>
            <a:ext cx="2342160" cy="2134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64" name=""/>
          <p:cNvCxnSpPr>
            <a:stCxn id="357" idx="4"/>
            <a:endCxn id="365" idx="0"/>
          </p:cNvCxnSpPr>
          <p:nvPr/>
        </p:nvCxnSpPr>
        <p:spPr>
          <a:xfrm flipH="1">
            <a:off x="1185120" y="3941640"/>
            <a:ext cx="3960" cy="286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366" name=""/>
          <p:cNvGrpSpPr/>
          <p:nvPr/>
        </p:nvGrpSpPr>
        <p:grpSpPr>
          <a:xfrm>
            <a:off x="315720" y="4241880"/>
            <a:ext cx="1903680" cy="368280"/>
            <a:chOff x="315720" y="4241880"/>
            <a:chExt cx="1903680" cy="368280"/>
          </a:xfrm>
        </p:grpSpPr>
        <p:sp>
          <p:nvSpPr>
            <p:cNvPr id="365" name=""/>
            <p:cNvSpPr/>
            <p:nvPr/>
          </p:nvSpPr>
          <p:spPr>
            <a:xfrm>
              <a:off x="315720" y="4241880"/>
              <a:ext cx="173988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ass_meas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066760" y="4373640"/>
              <a:ext cx="15264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>
            <a:off x="6446880" y="2022480"/>
            <a:ext cx="1033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29040" y="1203480"/>
            <a:ext cx="18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Select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925720" y="2293920"/>
            <a:ext cx="59817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measure_with_uni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 :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measure_valu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 : uni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YPE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measure_valu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= SELEC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length_measure, mass_measur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YPE length_measure = RE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YPE mass_measure = RE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"/>
          <p:cNvGrpSpPr/>
          <p:nvPr/>
        </p:nvGrpSpPr>
        <p:grpSpPr>
          <a:xfrm>
            <a:off x="1874880" y="1533600"/>
            <a:ext cx="2754360" cy="2236680"/>
            <a:chOff x="1874880" y="1533600"/>
            <a:chExt cx="2754360" cy="2236680"/>
          </a:xfrm>
        </p:grpSpPr>
        <p:sp>
          <p:nvSpPr>
            <p:cNvPr id="116" name=""/>
            <p:cNvSpPr/>
            <p:nvPr/>
          </p:nvSpPr>
          <p:spPr>
            <a:xfrm>
              <a:off x="1874880" y="1533600"/>
              <a:ext cx="2754360" cy="223668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1735" y="351"/>
                  </a:moveTo>
                  <a:lnTo>
                    <a:pt x="1735" y="0"/>
                  </a:lnTo>
                  <a:lnTo>
                    <a:pt x="0" y="0"/>
                  </a:lnTo>
                  <a:lnTo>
                    <a:pt x="2" y="1409"/>
                  </a:lnTo>
                  <a:lnTo>
                    <a:pt x="156" y="1409"/>
                  </a:lnTo>
                  <a:lnTo>
                    <a:pt x="164" y="1382"/>
                  </a:lnTo>
                  <a:lnTo>
                    <a:pt x="164" y="1362"/>
                  </a:lnTo>
                  <a:lnTo>
                    <a:pt x="159" y="1335"/>
                  </a:lnTo>
                  <a:lnTo>
                    <a:pt x="150" y="1307"/>
                  </a:lnTo>
                  <a:lnTo>
                    <a:pt x="141" y="1272"/>
                  </a:lnTo>
                  <a:lnTo>
                    <a:pt x="137" y="1245"/>
                  </a:lnTo>
                  <a:lnTo>
                    <a:pt x="135" y="1221"/>
                  </a:lnTo>
                  <a:lnTo>
                    <a:pt x="140" y="1194"/>
                  </a:lnTo>
                  <a:lnTo>
                    <a:pt x="147" y="1169"/>
                  </a:lnTo>
                  <a:lnTo>
                    <a:pt x="164" y="1144"/>
                  </a:lnTo>
                  <a:lnTo>
                    <a:pt x="183" y="1124"/>
                  </a:lnTo>
                  <a:lnTo>
                    <a:pt x="204" y="1105"/>
                  </a:lnTo>
                  <a:lnTo>
                    <a:pt x="228" y="1091"/>
                  </a:lnTo>
                  <a:lnTo>
                    <a:pt x="257" y="1079"/>
                  </a:lnTo>
                  <a:lnTo>
                    <a:pt x="282" y="1075"/>
                  </a:lnTo>
                  <a:lnTo>
                    <a:pt x="318" y="1073"/>
                  </a:lnTo>
                  <a:lnTo>
                    <a:pt x="360" y="1076"/>
                  </a:lnTo>
                  <a:lnTo>
                    <a:pt x="387" y="1079"/>
                  </a:lnTo>
                  <a:lnTo>
                    <a:pt x="411" y="1087"/>
                  </a:lnTo>
                  <a:lnTo>
                    <a:pt x="433" y="1100"/>
                  </a:lnTo>
                  <a:lnTo>
                    <a:pt x="462" y="1123"/>
                  </a:lnTo>
                  <a:lnTo>
                    <a:pt x="480" y="1144"/>
                  </a:lnTo>
                  <a:lnTo>
                    <a:pt x="496" y="1166"/>
                  </a:lnTo>
                  <a:lnTo>
                    <a:pt x="505" y="1190"/>
                  </a:lnTo>
                  <a:lnTo>
                    <a:pt x="511" y="1212"/>
                  </a:lnTo>
                  <a:lnTo>
                    <a:pt x="511" y="1238"/>
                  </a:lnTo>
                  <a:lnTo>
                    <a:pt x="508" y="1263"/>
                  </a:lnTo>
                  <a:lnTo>
                    <a:pt x="502" y="1287"/>
                  </a:lnTo>
                  <a:lnTo>
                    <a:pt x="496" y="1310"/>
                  </a:lnTo>
                  <a:lnTo>
                    <a:pt x="489" y="1334"/>
                  </a:lnTo>
                  <a:lnTo>
                    <a:pt x="484" y="1358"/>
                  </a:lnTo>
                  <a:lnTo>
                    <a:pt x="484" y="1379"/>
                  </a:lnTo>
                  <a:lnTo>
                    <a:pt x="490" y="1403"/>
                  </a:lnTo>
                  <a:lnTo>
                    <a:pt x="781" y="1403"/>
                  </a:lnTo>
                  <a:lnTo>
                    <a:pt x="778" y="1353"/>
                  </a:lnTo>
                  <a:lnTo>
                    <a:pt x="781" y="1317"/>
                  </a:lnTo>
                  <a:lnTo>
                    <a:pt x="781" y="1290"/>
                  </a:lnTo>
                  <a:lnTo>
                    <a:pt x="782" y="1265"/>
                  </a:lnTo>
                  <a:lnTo>
                    <a:pt x="785" y="1238"/>
                  </a:lnTo>
                  <a:lnTo>
                    <a:pt x="791" y="1211"/>
                  </a:lnTo>
                  <a:lnTo>
                    <a:pt x="799" y="1193"/>
                  </a:lnTo>
                  <a:lnTo>
                    <a:pt x="809" y="1177"/>
                  </a:lnTo>
                  <a:lnTo>
                    <a:pt x="824" y="1163"/>
                  </a:lnTo>
                  <a:lnTo>
                    <a:pt x="841" y="1153"/>
                  </a:lnTo>
                  <a:lnTo>
                    <a:pt x="860" y="1147"/>
                  </a:lnTo>
                  <a:lnTo>
                    <a:pt x="881" y="1144"/>
                  </a:lnTo>
                  <a:lnTo>
                    <a:pt x="901" y="1142"/>
                  </a:lnTo>
                  <a:lnTo>
                    <a:pt x="926" y="1142"/>
                  </a:lnTo>
                  <a:lnTo>
                    <a:pt x="950" y="1144"/>
                  </a:lnTo>
                  <a:lnTo>
                    <a:pt x="970" y="1147"/>
                  </a:lnTo>
                  <a:lnTo>
                    <a:pt x="995" y="1148"/>
                  </a:lnTo>
                  <a:lnTo>
                    <a:pt x="1022" y="1151"/>
                  </a:lnTo>
                  <a:lnTo>
                    <a:pt x="1052" y="1151"/>
                  </a:lnTo>
                  <a:lnTo>
                    <a:pt x="1078" y="1148"/>
                  </a:lnTo>
                  <a:lnTo>
                    <a:pt x="1103" y="1144"/>
                  </a:lnTo>
                  <a:lnTo>
                    <a:pt x="1130" y="1138"/>
                  </a:lnTo>
                  <a:lnTo>
                    <a:pt x="1150" y="1127"/>
                  </a:lnTo>
                  <a:lnTo>
                    <a:pt x="1170" y="1114"/>
                  </a:lnTo>
                  <a:lnTo>
                    <a:pt x="1184" y="1096"/>
                  </a:lnTo>
                  <a:lnTo>
                    <a:pt x="1197" y="1076"/>
                  </a:lnTo>
                  <a:lnTo>
                    <a:pt x="1203" y="1057"/>
                  </a:lnTo>
                  <a:lnTo>
                    <a:pt x="1206" y="1034"/>
                  </a:lnTo>
                  <a:lnTo>
                    <a:pt x="1203" y="1012"/>
                  </a:lnTo>
                  <a:lnTo>
                    <a:pt x="1202" y="988"/>
                  </a:lnTo>
                  <a:lnTo>
                    <a:pt x="1203" y="962"/>
                  </a:lnTo>
                  <a:lnTo>
                    <a:pt x="1208" y="943"/>
                  </a:lnTo>
                  <a:lnTo>
                    <a:pt x="1214" y="922"/>
                  </a:lnTo>
                  <a:lnTo>
                    <a:pt x="1223" y="902"/>
                  </a:lnTo>
                  <a:lnTo>
                    <a:pt x="1235" y="889"/>
                  </a:lnTo>
                  <a:lnTo>
                    <a:pt x="1254" y="875"/>
                  </a:lnTo>
                  <a:lnTo>
                    <a:pt x="1278" y="866"/>
                  </a:lnTo>
                  <a:lnTo>
                    <a:pt x="1302" y="859"/>
                  </a:lnTo>
                  <a:lnTo>
                    <a:pt x="1325" y="853"/>
                  </a:lnTo>
                  <a:lnTo>
                    <a:pt x="1349" y="847"/>
                  </a:lnTo>
                  <a:lnTo>
                    <a:pt x="1380" y="841"/>
                  </a:lnTo>
                  <a:lnTo>
                    <a:pt x="1404" y="836"/>
                  </a:lnTo>
                  <a:lnTo>
                    <a:pt x="1430" y="829"/>
                  </a:lnTo>
                  <a:lnTo>
                    <a:pt x="1451" y="821"/>
                  </a:lnTo>
                  <a:lnTo>
                    <a:pt x="1472" y="812"/>
                  </a:lnTo>
                  <a:lnTo>
                    <a:pt x="1488" y="800"/>
                  </a:lnTo>
                  <a:lnTo>
                    <a:pt x="1503" y="788"/>
                  </a:lnTo>
                  <a:lnTo>
                    <a:pt x="1520" y="769"/>
                  </a:lnTo>
                  <a:lnTo>
                    <a:pt x="1530" y="751"/>
                  </a:lnTo>
                  <a:lnTo>
                    <a:pt x="1539" y="730"/>
                  </a:lnTo>
                  <a:lnTo>
                    <a:pt x="1544" y="703"/>
                  </a:lnTo>
                  <a:lnTo>
                    <a:pt x="1541" y="681"/>
                  </a:lnTo>
                  <a:lnTo>
                    <a:pt x="1538" y="657"/>
                  </a:lnTo>
                  <a:lnTo>
                    <a:pt x="1530" y="628"/>
                  </a:lnTo>
                  <a:lnTo>
                    <a:pt x="1523" y="597"/>
                  </a:lnTo>
                  <a:lnTo>
                    <a:pt x="1515" y="568"/>
                  </a:lnTo>
                  <a:lnTo>
                    <a:pt x="1514" y="546"/>
                  </a:lnTo>
                  <a:lnTo>
                    <a:pt x="1514" y="525"/>
                  </a:lnTo>
                  <a:lnTo>
                    <a:pt x="1517" y="496"/>
                  </a:lnTo>
                  <a:lnTo>
                    <a:pt x="1524" y="472"/>
                  </a:lnTo>
                  <a:lnTo>
                    <a:pt x="1532" y="454"/>
                  </a:lnTo>
                  <a:lnTo>
                    <a:pt x="1542" y="436"/>
                  </a:lnTo>
                  <a:lnTo>
                    <a:pt x="1557" y="417"/>
                  </a:lnTo>
                  <a:lnTo>
                    <a:pt x="1573" y="397"/>
                  </a:lnTo>
                  <a:lnTo>
                    <a:pt x="1594" y="381"/>
                  </a:lnTo>
                  <a:lnTo>
                    <a:pt x="1617" y="368"/>
                  </a:lnTo>
                  <a:lnTo>
                    <a:pt x="1638" y="360"/>
                  </a:lnTo>
                  <a:lnTo>
                    <a:pt x="1659" y="354"/>
                  </a:lnTo>
                  <a:lnTo>
                    <a:pt x="1681" y="351"/>
                  </a:lnTo>
                  <a:lnTo>
                    <a:pt x="1708" y="351"/>
                  </a:lnTo>
                  <a:lnTo>
                    <a:pt x="1735" y="351"/>
                  </a:lnTo>
                  <a:close/>
                </a:path>
              </a:pathLst>
            </a:custGeom>
            <a:solidFill>
              <a:srgbClr val="008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917000" y="1663560"/>
              <a:ext cx="2010960" cy="11300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1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EXPRE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533840" y="2590920"/>
            <a:ext cx="4324320" cy="32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571680" indent="-5716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Origin in STE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Its R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Its use in LPM/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Mains featu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EXPRESS-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elect Data Types (2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335920" y="168588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6154560" y="2592360"/>
            <a:ext cx="690840" cy="592560"/>
            <a:chOff x="6154560" y="2592360"/>
            <a:chExt cx="690840" cy="592560"/>
          </a:xfrm>
        </p:grpSpPr>
        <p:sp>
          <p:nvSpPr>
            <p:cNvPr id="373" name=""/>
            <p:cNvSpPr/>
            <p:nvPr/>
          </p:nvSpPr>
          <p:spPr>
            <a:xfrm>
              <a:off x="6154560" y="2814480"/>
              <a:ext cx="69084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405480" y="25923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6264360" y="2796480"/>
              <a:ext cx="0" cy="3884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76" name=""/>
          <p:cNvCxnSpPr>
            <a:stCxn id="371" idx="2"/>
            <a:endCxn id="374" idx="0"/>
          </p:cNvCxnSpPr>
          <p:nvPr/>
        </p:nvCxnSpPr>
        <p:spPr>
          <a:xfrm>
            <a:off x="6496200" y="2125800"/>
            <a:ext cx="3600" cy="452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377" name=""/>
          <p:cNvGrpSpPr/>
          <p:nvPr/>
        </p:nvGrpSpPr>
        <p:grpSpPr>
          <a:xfrm>
            <a:off x="7120080" y="3354480"/>
            <a:ext cx="1792440" cy="398880"/>
            <a:chOff x="7120080" y="3354480"/>
            <a:chExt cx="1792440" cy="398880"/>
          </a:xfrm>
        </p:grpSpPr>
        <p:sp>
          <p:nvSpPr>
            <p:cNvPr id="378" name=""/>
            <p:cNvSpPr/>
            <p:nvPr/>
          </p:nvSpPr>
          <p:spPr>
            <a:xfrm>
              <a:off x="7343280" y="3354480"/>
              <a:ext cx="1569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eriv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120080" y="345600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7147080" y="3944880"/>
            <a:ext cx="1734840" cy="398880"/>
            <a:chOff x="7147080" y="3944880"/>
            <a:chExt cx="1734840" cy="398880"/>
          </a:xfrm>
        </p:grpSpPr>
        <p:sp>
          <p:nvSpPr>
            <p:cNvPr id="381" name=""/>
            <p:cNvSpPr/>
            <p:nvPr/>
          </p:nvSpPr>
          <p:spPr>
            <a:xfrm>
              <a:off x="7370640" y="394488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147080" y="404640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83" name=""/>
          <p:cNvCxnSpPr>
            <a:stCxn id="373" idx="2"/>
            <a:endCxn id="382" idx="2"/>
          </p:cNvCxnSpPr>
          <p:nvPr/>
        </p:nvCxnSpPr>
        <p:spPr>
          <a:xfrm flipH="1" rot="16200000">
            <a:off x="6357600" y="3366000"/>
            <a:ext cx="916920" cy="6325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84" name=""/>
          <p:cNvCxnSpPr>
            <a:stCxn id="373" idx="2"/>
            <a:endCxn id="379" idx="2"/>
          </p:cNvCxnSpPr>
          <p:nvPr/>
        </p:nvCxnSpPr>
        <p:spPr>
          <a:xfrm flipH="1" rot="16200000">
            <a:off x="6640560" y="3084120"/>
            <a:ext cx="326160" cy="6055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85" name=""/>
          <p:cNvSpPr/>
          <p:nvPr/>
        </p:nvSpPr>
        <p:spPr>
          <a:xfrm>
            <a:off x="6518880" y="215424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25400" y="1720800"/>
            <a:ext cx="188928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asure_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629080" y="1825560"/>
            <a:ext cx="19188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V="1">
            <a:off x="865080" y="1703520"/>
            <a:ext cx="0" cy="388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9" name=""/>
          <p:cNvCxnSpPr>
            <a:stCxn id="371" idx="1"/>
            <a:endCxn id="387" idx="6"/>
          </p:cNvCxnSpPr>
          <p:nvPr/>
        </p:nvCxnSpPr>
        <p:spPr>
          <a:xfrm flipH="1">
            <a:off x="2835000" y="1898280"/>
            <a:ext cx="2473920" cy="20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90" name=""/>
          <p:cNvSpPr/>
          <p:nvPr/>
        </p:nvSpPr>
        <p:spPr>
          <a:xfrm>
            <a:off x="3112560" y="151776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208480" y="2013120"/>
            <a:ext cx="1033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336760" y="2006640"/>
            <a:ext cx="21744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446880" y="2022480"/>
            <a:ext cx="1033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925320" y="2759040"/>
            <a:ext cx="18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Select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85840" y="2338560"/>
            <a:ext cx="59817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measure_with_uni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 : measure_val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 :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uni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YPE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uni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= SELEC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derived_unit, named_unit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named_uni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YPE derived_uni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ggregation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874080" y="3411360"/>
            <a:ext cx="357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ments_of_inertia A[1:3] A[1:3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8" name=""/>
          <p:cNvCxnSpPr>
            <a:stCxn id="399" idx="2"/>
            <a:endCxn id="400" idx="2"/>
          </p:cNvCxnSpPr>
          <p:nvPr/>
        </p:nvCxnSpPr>
        <p:spPr>
          <a:xfrm flipH="1" rot="16200000">
            <a:off x="2950200" y="1425240"/>
            <a:ext cx="726120" cy="21452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01" name=""/>
          <p:cNvSpPr/>
          <p:nvPr/>
        </p:nvSpPr>
        <p:spPr>
          <a:xfrm>
            <a:off x="2475000" y="2489040"/>
            <a:ext cx="162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sses A[1: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2" name=""/>
          <p:cNvCxnSpPr>
            <a:stCxn id="403" idx="2"/>
            <a:endCxn id="404" idx="2"/>
          </p:cNvCxnSpPr>
          <p:nvPr/>
        </p:nvCxnSpPr>
        <p:spPr>
          <a:xfrm flipH="1" rot="16200000">
            <a:off x="1759680" y="1175040"/>
            <a:ext cx="1694520" cy="35568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405" name=""/>
          <p:cNvGrpSpPr/>
          <p:nvPr/>
        </p:nvGrpSpPr>
        <p:grpSpPr>
          <a:xfrm>
            <a:off x="352800" y="1695600"/>
            <a:ext cx="3777480" cy="410400"/>
            <a:chOff x="352800" y="1695600"/>
            <a:chExt cx="3777480" cy="410400"/>
          </a:xfrm>
        </p:grpSpPr>
        <p:sp>
          <p:nvSpPr>
            <p:cNvPr id="399" name=""/>
            <p:cNvSpPr/>
            <p:nvPr/>
          </p:nvSpPr>
          <p:spPr>
            <a:xfrm>
              <a:off x="352800" y="1695600"/>
              <a:ext cx="37774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point_stationary_ma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2280" y="1947600"/>
              <a:ext cx="27288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546280" y="1947600"/>
              <a:ext cx="27324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>
            <a:off x="4560840" y="2670120"/>
            <a:ext cx="94464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V="1">
            <a:off x="5407200" y="2669760"/>
            <a:ext cx="0" cy="37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400640" y="27846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398840" y="372420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562640" y="3578400"/>
            <a:ext cx="94428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V="1">
            <a:off x="5380200" y="3578040"/>
            <a:ext cx="0" cy="37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558320" y="4043520"/>
            <a:ext cx="38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Two Dimensional ARR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560120" y="2122560"/>
            <a:ext cx="383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One Dimensional ARR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-62280" y="4935600"/>
            <a:ext cx="764316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element_point_stationary_m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sses : ARRAY [1:3] OF RE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ments_of_inertia : ARRAY [1:3] OF ARRAY [1:3] OF RE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nverse Claus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439640" y="1384200"/>
            <a:ext cx="181044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82960" y="229860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254160" y="266544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01520" y="258300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126080" y="2430360"/>
            <a:ext cx="24325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257560" y="226836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H="1">
            <a:off x="3480120" y="1236600"/>
            <a:ext cx="1906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text_of_i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4088160" y="2125800"/>
            <a:ext cx="4776480" cy="784080"/>
            <a:chOff x="4088160" y="2125800"/>
            <a:chExt cx="4776480" cy="784080"/>
          </a:xfrm>
        </p:grpSpPr>
        <p:sp>
          <p:nvSpPr>
            <p:cNvPr id="423" name=""/>
            <p:cNvSpPr/>
            <p:nvPr/>
          </p:nvSpPr>
          <p:spPr>
            <a:xfrm>
              <a:off x="4088160" y="2428920"/>
              <a:ext cx="277380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presentation_contex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6858000" y="2486160"/>
              <a:ext cx="1830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8697960" y="24242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flipH="1">
              <a:off x="6946920" y="2486160"/>
              <a:ext cx="1475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context_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H="1">
              <a:off x="6870240" y="2833560"/>
              <a:ext cx="1846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8712360" y="27576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843600" y="2125800"/>
              <a:ext cx="19051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context_identifi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391000" y="226224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1" name=""/>
          <p:cNvSpPr/>
          <p:nvPr/>
        </p:nvSpPr>
        <p:spPr>
          <a:xfrm>
            <a:off x="893520" y="1847880"/>
            <a:ext cx="138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784600" y="1658880"/>
            <a:ext cx="404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3" name=""/>
          <p:cNvCxnSpPr>
            <a:stCxn id="415" idx="3"/>
            <a:endCxn id="430" idx="0"/>
          </p:cNvCxnSpPr>
          <p:nvPr/>
        </p:nvCxnSpPr>
        <p:spPr>
          <a:xfrm>
            <a:off x="3274920" y="1596960"/>
            <a:ext cx="2193120" cy="6516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434" name=""/>
          <p:cNvCxnSpPr>
            <a:stCxn id="415" idx="2"/>
            <a:endCxn id="420" idx="0"/>
          </p:cNvCxnSpPr>
          <p:nvPr/>
        </p:nvCxnSpPr>
        <p:spPr>
          <a:xfrm rot="5400000">
            <a:off x="2123280" y="2033280"/>
            <a:ext cx="430920" cy="11880"/>
          </a:xfrm>
          <a:prstGeom prst="bentConnector3">
            <a:avLst>
              <a:gd name="adj1" fmla="val 49749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35" name=""/>
          <p:cNvSpPr/>
          <p:nvPr/>
        </p:nvSpPr>
        <p:spPr>
          <a:xfrm>
            <a:off x="586080" y="124128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H="1">
            <a:off x="571680" y="160812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19040" y="15256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H="1">
            <a:off x="3399840" y="1627200"/>
            <a:ext cx="4887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(INV) representations_in_context S 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-140400" y="2876400"/>
            <a:ext cx="9491760" cy="34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representation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 : lab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s : SET [1:?] OF representation_item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text_of_items : representation_contex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representation_contex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text_identifier : identifie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text_type : tex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VER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presentations_in_context : SET [1:?] OF representation FOR context_of_item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/>
          <p:nvPr/>
        </p:nvSpPr>
        <p:spPr>
          <a:xfrm>
            <a:off x="3479760" y="3395520"/>
            <a:ext cx="233856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1" name=""/>
          <p:cNvGrpSpPr/>
          <p:nvPr/>
        </p:nvGrpSpPr>
        <p:grpSpPr>
          <a:xfrm>
            <a:off x="3090960" y="2085840"/>
            <a:ext cx="3054240" cy="3346560"/>
            <a:chOff x="3090960" y="2085840"/>
            <a:chExt cx="3054240" cy="3346560"/>
          </a:xfrm>
        </p:grpSpPr>
        <p:sp>
          <p:nvSpPr>
            <p:cNvPr id="442" name=""/>
            <p:cNvSpPr/>
            <p:nvPr/>
          </p:nvSpPr>
          <p:spPr>
            <a:xfrm>
              <a:off x="3090960" y="2085840"/>
              <a:ext cx="3054240" cy="3346560"/>
            </a:xfrm>
            <a:custGeom>
              <a:avLst/>
              <a:gdLst/>
              <a:ahLst/>
              <a:rect l="l" t="t" r="r" b="b"/>
              <a:pathLst>
                <a:path w="1924" h="2108">
                  <a:moveTo>
                    <a:pt x="733" y="440"/>
                  </a:moveTo>
                  <a:lnTo>
                    <a:pt x="752" y="417"/>
                  </a:lnTo>
                  <a:lnTo>
                    <a:pt x="766" y="394"/>
                  </a:lnTo>
                  <a:lnTo>
                    <a:pt x="773" y="369"/>
                  </a:lnTo>
                  <a:lnTo>
                    <a:pt x="773" y="336"/>
                  </a:lnTo>
                  <a:lnTo>
                    <a:pt x="764" y="298"/>
                  </a:lnTo>
                  <a:lnTo>
                    <a:pt x="757" y="267"/>
                  </a:lnTo>
                  <a:lnTo>
                    <a:pt x="746" y="228"/>
                  </a:lnTo>
                  <a:lnTo>
                    <a:pt x="742" y="186"/>
                  </a:lnTo>
                  <a:lnTo>
                    <a:pt x="746" y="160"/>
                  </a:lnTo>
                  <a:lnTo>
                    <a:pt x="754" y="129"/>
                  </a:lnTo>
                  <a:lnTo>
                    <a:pt x="769" y="96"/>
                  </a:lnTo>
                  <a:lnTo>
                    <a:pt x="789" y="64"/>
                  </a:lnTo>
                  <a:lnTo>
                    <a:pt x="816" y="39"/>
                  </a:lnTo>
                  <a:lnTo>
                    <a:pt x="840" y="20"/>
                  </a:lnTo>
                  <a:lnTo>
                    <a:pt x="873" y="8"/>
                  </a:lnTo>
                  <a:lnTo>
                    <a:pt x="912" y="2"/>
                  </a:lnTo>
                  <a:lnTo>
                    <a:pt x="954" y="0"/>
                  </a:lnTo>
                  <a:lnTo>
                    <a:pt x="1011" y="0"/>
                  </a:lnTo>
                  <a:lnTo>
                    <a:pt x="1056" y="5"/>
                  </a:lnTo>
                  <a:lnTo>
                    <a:pt x="1082" y="14"/>
                  </a:lnTo>
                  <a:lnTo>
                    <a:pt x="1101" y="26"/>
                  </a:lnTo>
                  <a:lnTo>
                    <a:pt x="1122" y="39"/>
                  </a:lnTo>
                  <a:lnTo>
                    <a:pt x="1143" y="60"/>
                  </a:lnTo>
                  <a:lnTo>
                    <a:pt x="1163" y="87"/>
                  </a:lnTo>
                  <a:lnTo>
                    <a:pt x="1177" y="111"/>
                  </a:lnTo>
                  <a:lnTo>
                    <a:pt x="1185" y="132"/>
                  </a:lnTo>
                  <a:lnTo>
                    <a:pt x="1191" y="168"/>
                  </a:lnTo>
                  <a:lnTo>
                    <a:pt x="1191" y="199"/>
                  </a:lnTo>
                  <a:lnTo>
                    <a:pt x="1186" y="231"/>
                  </a:lnTo>
                  <a:lnTo>
                    <a:pt x="1180" y="255"/>
                  </a:lnTo>
                  <a:lnTo>
                    <a:pt x="1173" y="294"/>
                  </a:lnTo>
                  <a:lnTo>
                    <a:pt x="1163" y="334"/>
                  </a:lnTo>
                  <a:lnTo>
                    <a:pt x="1158" y="360"/>
                  </a:lnTo>
                  <a:lnTo>
                    <a:pt x="1166" y="385"/>
                  </a:lnTo>
                  <a:lnTo>
                    <a:pt x="1174" y="403"/>
                  </a:lnTo>
                  <a:lnTo>
                    <a:pt x="1191" y="427"/>
                  </a:lnTo>
                  <a:lnTo>
                    <a:pt x="1215" y="446"/>
                  </a:lnTo>
                  <a:lnTo>
                    <a:pt x="1237" y="463"/>
                  </a:lnTo>
                  <a:lnTo>
                    <a:pt x="1270" y="476"/>
                  </a:lnTo>
                  <a:lnTo>
                    <a:pt x="1303" y="485"/>
                  </a:lnTo>
                  <a:lnTo>
                    <a:pt x="1335" y="493"/>
                  </a:lnTo>
                  <a:lnTo>
                    <a:pt x="1368" y="497"/>
                  </a:lnTo>
                  <a:lnTo>
                    <a:pt x="1402" y="506"/>
                  </a:lnTo>
                  <a:lnTo>
                    <a:pt x="1429" y="515"/>
                  </a:lnTo>
                  <a:lnTo>
                    <a:pt x="1450" y="526"/>
                  </a:lnTo>
                  <a:lnTo>
                    <a:pt x="1467" y="538"/>
                  </a:lnTo>
                  <a:lnTo>
                    <a:pt x="1479" y="551"/>
                  </a:lnTo>
                  <a:lnTo>
                    <a:pt x="1488" y="568"/>
                  </a:lnTo>
                  <a:lnTo>
                    <a:pt x="1495" y="587"/>
                  </a:lnTo>
                  <a:lnTo>
                    <a:pt x="1498" y="605"/>
                  </a:lnTo>
                  <a:lnTo>
                    <a:pt x="1501" y="622"/>
                  </a:lnTo>
                  <a:lnTo>
                    <a:pt x="1501" y="644"/>
                  </a:lnTo>
                  <a:lnTo>
                    <a:pt x="1498" y="670"/>
                  </a:lnTo>
                  <a:lnTo>
                    <a:pt x="1498" y="689"/>
                  </a:lnTo>
                  <a:lnTo>
                    <a:pt x="1503" y="713"/>
                  </a:lnTo>
                  <a:lnTo>
                    <a:pt x="1513" y="734"/>
                  </a:lnTo>
                  <a:lnTo>
                    <a:pt x="1525" y="752"/>
                  </a:lnTo>
                  <a:lnTo>
                    <a:pt x="1540" y="766"/>
                  </a:lnTo>
                  <a:lnTo>
                    <a:pt x="1559" y="781"/>
                  </a:lnTo>
                  <a:lnTo>
                    <a:pt x="1579" y="790"/>
                  </a:lnTo>
                  <a:lnTo>
                    <a:pt x="1609" y="796"/>
                  </a:lnTo>
                  <a:lnTo>
                    <a:pt x="1634" y="799"/>
                  </a:lnTo>
                  <a:lnTo>
                    <a:pt x="1658" y="800"/>
                  </a:lnTo>
                  <a:lnTo>
                    <a:pt x="1685" y="799"/>
                  </a:lnTo>
                  <a:lnTo>
                    <a:pt x="1718" y="796"/>
                  </a:lnTo>
                  <a:lnTo>
                    <a:pt x="1744" y="794"/>
                  </a:lnTo>
                  <a:lnTo>
                    <a:pt x="1769" y="791"/>
                  </a:lnTo>
                  <a:lnTo>
                    <a:pt x="1793" y="790"/>
                  </a:lnTo>
                  <a:lnTo>
                    <a:pt x="1822" y="791"/>
                  </a:lnTo>
                  <a:lnTo>
                    <a:pt x="1837" y="794"/>
                  </a:lnTo>
                  <a:lnTo>
                    <a:pt x="1855" y="799"/>
                  </a:lnTo>
                  <a:lnTo>
                    <a:pt x="1871" y="808"/>
                  </a:lnTo>
                  <a:lnTo>
                    <a:pt x="1889" y="821"/>
                  </a:lnTo>
                  <a:lnTo>
                    <a:pt x="1903" y="836"/>
                  </a:lnTo>
                  <a:lnTo>
                    <a:pt x="1913" y="858"/>
                  </a:lnTo>
                  <a:lnTo>
                    <a:pt x="1918" y="878"/>
                  </a:lnTo>
                  <a:lnTo>
                    <a:pt x="1921" y="902"/>
                  </a:lnTo>
                  <a:lnTo>
                    <a:pt x="1924" y="945"/>
                  </a:lnTo>
                  <a:lnTo>
                    <a:pt x="1922" y="996"/>
                  </a:lnTo>
                  <a:lnTo>
                    <a:pt x="1924" y="1050"/>
                  </a:lnTo>
                  <a:lnTo>
                    <a:pt x="1919" y="1113"/>
                  </a:lnTo>
                  <a:lnTo>
                    <a:pt x="1915" y="1157"/>
                  </a:lnTo>
                  <a:lnTo>
                    <a:pt x="1910" y="1191"/>
                  </a:lnTo>
                  <a:lnTo>
                    <a:pt x="1903" y="1211"/>
                  </a:lnTo>
                  <a:lnTo>
                    <a:pt x="1891" y="1229"/>
                  </a:lnTo>
                  <a:lnTo>
                    <a:pt x="1877" y="1240"/>
                  </a:lnTo>
                  <a:lnTo>
                    <a:pt x="1859" y="1251"/>
                  </a:lnTo>
                  <a:lnTo>
                    <a:pt x="1838" y="1257"/>
                  </a:lnTo>
                  <a:lnTo>
                    <a:pt x="1820" y="1261"/>
                  </a:lnTo>
                  <a:lnTo>
                    <a:pt x="1783" y="1263"/>
                  </a:lnTo>
                  <a:lnTo>
                    <a:pt x="1750" y="1261"/>
                  </a:lnTo>
                  <a:lnTo>
                    <a:pt x="1723" y="1257"/>
                  </a:lnTo>
                  <a:lnTo>
                    <a:pt x="1699" y="1255"/>
                  </a:lnTo>
                  <a:lnTo>
                    <a:pt x="1672" y="1254"/>
                  </a:lnTo>
                  <a:lnTo>
                    <a:pt x="1648" y="1254"/>
                  </a:lnTo>
                  <a:lnTo>
                    <a:pt x="1627" y="1255"/>
                  </a:lnTo>
                  <a:lnTo>
                    <a:pt x="1604" y="1257"/>
                  </a:lnTo>
                  <a:lnTo>
                    <a:pt x="1577" y="1264"/>
                  </a:lnTo>
                  <a:lnTo>
                    <a:pt x="1562" y="1270"/>
                  </a:lnTo>
                  <a:lnTo>
                    <a:pt x="1549" y="1276"/>
                  </a:lnTo>
                  <a:lnTo>
                    <a:pt x="1531" y="1288"/>
                  </a:lnTo>
                  <a:lnTo>
                    <a:pt x="1519" y="1303"/>
                  </a:lnTo>
                  <a:lnTo>
                    <a:pt x="1510" y="1317"/>
                  </a:lnTo>
                  <a:lnTo>
                    <a:pt x="1501" y="1333"/>
                  </a:lnTo>
                  <a:lnTo>
                    <a:pt x="1497" y="1350"/>
                  </a:lnTo>
                  <a:lnTo>
                    <a:pt x="1495" y="1368"/>
                  </a:lnTo>
                  <a:lnTo>
                    <a:pt x="1497" y="1387"/>
                  </a:lnTo>
                  <a:lnTo>
                    <a:pt x="1497" y="1420"/>
                  </a:lnTo>
                  <a:lnTo>
                    <a:pt x="1495" y="1455"/>
                  </a:lnTo>
                  <a:lnTo>
                    <a:pt x="1486" y="1480"/>
                  </a:lnTo>
                  <a:lnTo>
                    <a:pt x="1477" y="1501"/>
                  </a:lnTo>
                  <a:lnTo>
                    <a:pt x="1464" y="1516"/>
                  </a:lnTo>
                  <a:lnTo>
                    <a:pt x="1444" y="1528"/>
                  </a:lnTo>
                  <a:lnTo>
                    <a:pt x="1425" y="1539"/>
                  </a:lnTo>
                  <a:lnTo>
                    <a:pt x="1402" y="1545"/>
                  </a:lnTo>
                  <a:lnTo>
                    <a:pt x="1374" y="1551"/>
                  </a:lnTo>
                  <a:lnTo>
                    <a:pt x="1350" y="1558"/>
                  </a:lnTo>
                  <a:lnTo>
                    <a:pt x="1321" y="1563"/>
                  </a:lnTo>
                  <a:lnTo>
                    <a:pt x="1297" y="1567"/>
                  </a:lnTo>
                  <a:lnTo>
                    <a:pt x="1270" y="1573"/>
                  </a:lnTo>
                  <a:lnTo>
                    <a:pt x="1249" y="1584"/>
                  </a:lnTo>
                  <a:lnTo>
                    <a:pt x="1225" y="1594"/>
                  </a:lnTo>
                  <a:lnTo>
                    <a:pt x="1203" y="1608"/>
                  </a:lnTo>
                  <a:lnTo>
                    <a:pt x="1186" y="1626"/>
                  </a:lnTo>
                  <a:lnTo>
                    <a:pt x="1171" y="1646"/>
                  </a:lnTo>
                  <a:lnTo>
                    <a:pt x="1160" y="1672"/>
                  </a:lnTo>
                  <a:lnTo>
                    <a:pt x="1157" y="1694"/>
                  </a:lnTo>
                  <a:lnTo>
                    <a:pt x="1158" y="1720"/>
                  </a:lnTo>
                  <a:lnTo>
                    <a:pt x="1163" y="1744"/>
                  </a:lnTo>
                  <a:lnTo>
                    <a:pt x="1170" y="1769"/>
                  </a:lnTo>
                  <a:lnTo>
                    <a:pt x="1176" y="1798"/>
                  </a:lnTo>
                  <a:lnTo>
                    <a:pt x="1180" y="1823"/>
                  </a:lnTo>
                  <a:lnTo>
                    <a:pt x="1186" y="1856"/>
                  </a:lnTo>
                  <a:lnTo>
                    <a:pt x="1186" y="1889"/>
                  </a:lnTo>
                  <a:lnTo>
                    <a:pt x="1179" y="1922"/>
                  </a:lnTo>
                  <a:lnTo>
                    <a:pt x="1171" y="1948"/>
                  </a:lnTo>
                  <a:lnTo>
                    <a:pt x="1163" y="1973"/>
                  </a:lnTo>
                  <a:lnTo>
                    <a:pt x="1151" y="1997"/>
                  </a:lnTo>
                  <a:lnTo>
                    <a:pt x="1134" y="2027"/>
                  </a:lnTo>
                  <a:lnTo>
                    <a:pt x="1116" y="2046"/>
                  </a:lnTo>
                  <a:lnTo>
                    <a:pt x="1101" y="2060"/>
                  </a:lnTo>
                  <a:lnTo>
                    <a:pt x="1082" y="2076"/>
                  </a:lnTo>
                  <a:lnTo>
                    <a:pt x="1061" y="2091"/>
                  </a:lnTo>
                  <a:lnTo>
                    <a:pt x="1041" y="2099"/>
                  </a:lnTo>
                  <a:lnTo>
                    <a:pt x="1023" y="2103"/>
                  </a:lnTo>
                  <a:lnTo>
                    <a:pt x="993" y="2106"/>
                  </a:lnTo>
                  <a:lnTo>
                    <a:pt x="959" y="2108"/>
                  </a:lnTo>
                  <a:lnTo>
                    <a:pt x="917" y="2106"/>
                  </a:lnTo>
                  <a:lnTo>
                    <a:pt x="897" y="2106"/>
                  </a:lnTo>
                  <a:lnTo>
                    <a:pt x="872" y="2102"/>
                  </a:lnTo>
                  <a:lnTo>
                    <a:pt x="845" y="2094"/>
                  </a:lnTo>
                  <a:lnTo>
                    <a:pt x="821" y="2081"/>
                  </a:lnTo>
                  <a:lnTo>
                    <a:pt x="806" y="2069"/>
                  </a:lnTo>
                  <a:lnTo>
                    <a:pt x="789" y="2052"/>
                  </a:lnTo>
                  <a:lnTo>
                    <a:pt x="776" y="2037"/>
                  </a:lnTo>
                  <a:lnTo>
                    <a:pt x="763" y="2018"/>
                  </a:lnTo>
                  <a:lnTo>
                    <a:pt x="752" y="1999"/>
                  </a:lnTo>
                  <a:lnTo>
                    <a:pt x="743" y="1975"/>
                  </a:lnTo>
                  <a:lnTo>
                    <a:pt x="739" y="1949"/>
                  </a:lnTo>
                  <a:lnTo>
                    <a:pt x="737" y="1930"/>
                  </a:lnTo>
                  <a:lnTo>
                    <a:pt x="737" y="1903"/>
                  </a:lnTo>
                  <a:lnTo>
                    <a:pt x="739" y="1880"/>
                  </a:lnTo>
                  <a:lnTo>
                    <a:pt x="746" y="1856"/>
                  </a:lnTo>
                  <a:lnTo>
                    <a:pt x="752" y="1828"/>
                  </a:lnTo>
                  <a:lnTo>
                    <a:pt x="760" y="1801"/>
                  </a:lnTo>
                  <a:lnTo>
                    <a:pt x="764" y="1777"/>
                  </a:lnTo>
                  <a:lnTo>
                    <a:pt x="766" y="1754"/>
                  </a:lnTo>
                  <a:lnTo>
                    <a:pt x="764" y="1736"/>
                  </a:lnTo>
                  <a:lnTo>
                    <a:pt x="760" y="1718"/>
                  </a:lnTo>
                  <a:lnTo>
                    <a:pt x="748" y="1696"/>
                  </a:lnTo>
                  <a:lnTo>
                    <a:pt x="736" y="1681"/>
                  </a:lnTo>
                  <a:lnTo>
                    <a:pt x="721" y="1664"/>
                  </a:lnTo>
                  <a:lnTo>
                    <a:pt x="704" y="1652"/>
                  </a:lnTo>
                  <a:lnTo>
                    <a:pt x="688" y="1640"/>
                  </a:lnTo>
                  <a:lnTo>
                    <a:pt x="664" y="1632"/>
                  </a:lnTo>
                  <a:lnTo>
                    <a:pt x="643" y="1626"/>
                  </a:lnTo>
                  <a:lnTo>
                    <a:pt x="616" y="1620"/>
                  </a:lnTo>
                  <a:lnTo>
                    <a:pt x="592" y="1617"/>
                  </a:lnTo>
                  <a:lnTo>
                    <a:pt x="569" y="1611"/>
                  </a:lnTo>
                  <a:lnTo>
                    <a:pt x="542" y="1605"/>
                  </a:lnTo>
                  <a:lnTo>
                    <a:pt x="520" y="1596"/>
                  </a:lnTo>
                  <a:lnTo>
                    <a:pt x="493" y="1588"/>
                  </a:lnTo>
                  <a:lnTo>
                    <a:pt x="472" y="1579"/>
                  </a:lnTo>
                  <a:lnTo>
                    <a:pt x="455" y="1566"/>
                  </a:lnTo>
                  <a:lnTo>
                    <a:pt x="442" y="1548"/>
                  </a:lnTo>
                  <a:lnTo>
                    <a:pt x="433" y="1525"/>
                  </a:lnTo>
                  <a:lnTo>
                    <a:pt x="425" y="1495"/>
                  </a:lnTo>
                  <a:lnTo>
                    <a:pt x="424" y="1471"/>
                  </a:lnTo>
                  <a:lnTo>
                    <a:pt x="425" y="1444"/>
                  </a:lnTo>
                  <a:lnTo>
                    <a:pt x="428" y="1423"/>
                  </a:lnTo>
                  <a:lnTo>
                    <a:pt x="425" y="1398"/>
                  </a:lnTo>
                  <a:lnTo>
                    <a:pt x="418" y="1378"/>
                  </a:lnTo>
                  <a:lnTo>
                    <a:pt x="404" y="1357"/>
                  </a:lnTo>
                  <a:lnTo>
                    <a:pt x="391" y="1344"/>
                  </a:lnTo>
                  <a:lnTo>
                    <a:pt x="375" y="1330"/>
                  </a:lnTo>
                  <a:lnTo>
                    <a:pt x="352" y="1321"/>
                  </a:lnTo>
                  <a:lnTo>
                    <a:pt x="327" y="1312"/>
                  </a:lnTo>
                  <a:lnTo>
                    <a:pt x="300" y="1309"/>
                  </a:lnTo>
                  <a:lnTo>
                    <a:pt x="277" y="1306"/>
                  </a:lnTo>
                  <a:lnTo>
                    <a:pt x="252" y="1306"/>
                  </a:lnTo>
                  <a:lnTo>
                    <a:pt x="229" y="1309"/>
                  </a:lnTo>
                  <a:lnTo>
                    <a:pt x="207" y="1311"/>
                  </a:lnTo>
                  <a:lnTo>
                    <a:pt x="184" y="1314"/>
                  </a:lnTo>
                  <a:lnTo>
                    <a:pt x="162" y="1317"/>
                  </a:lnTo>
                  <a:lnTo>
                    <a:pt x="124" y="1317"/>
                  </a:lnTo>
                  <a:lnTo>
                    <a:pt x="100" y="1315"/>
                  </a:lnTo>
                  <a:lnTo>
                    <a:pt x="75" y="1309"/>
                  </a:lnTo>
                  <a:lnTo>
                    <a:pt x="57" y="1300"/>
                  </a:lnTo>
                  <a:lnTo>
                    <a:pt x="37" y="1285"/>
                  </a:lnTo>
                  <a:lnTo>
                    <a:pt x="24" y="1269"/>
                  </a:lnTo>
                  <a:lnTo>
                    <a:pt x="15" y="1251"/>
                  </a:lnTo>
                  <a:lnTo>
                    <a:pt x="4" y="1217"/>
                  </a:lnTo>
                  <a:lnTo>
                    <a:pt x="3" y="1181"/>
                  </a:lnTo>
                  <a:lnTo>
                    <a:pt x="2" y="1145"/>
                  </a:lnTo>
                  <a:lnTo>
                    <a:pt x="0" y="1100"/>
                  </a:lnTo>
                  <a:lnTo>
                    <a:pt x="3" y="1061"/>
                  </a:lnTo>
                  <a:lnTo>
                    <a:pt x="4" y="1019"/>
                  </a:lnTo>
                  <a:lnTo>
                    <a:pt x="6" y="981"/>
                  </a:lnTo>
                  <a:lnTo>
                    <a:pt x="9" y="942"/>
                  </a:lnTo>
                  <a:lnTo>
                    <a:pt x="13" y="912"/>
                  </a:lnTo>
                  <a:lnTo>
                    <a:pt x="18" y="879"/>
                  </a:lnTo>
                  <a:lnTo>
                    <a:pt x="24" y="854"/>
                  </a:lnTo>
                  <a:lnTo>
                    <a:pt x="33" y="837"/>
                  </a:lnTo>
                  <a:lnTo>
                    <a:pt x="46" y="821"/>
                  </a:lnTo>
                  <a:lnTo>
                    <a:pt x="60" y="811"/>
                  </a:lnTo>
                  <a:lnTo>
                    <a:pt x="78" y="799"/>
                  </a:lnTo>
                  <a:lnTo>
                    <a:pt x="94" y="796"/>
                  </a:lnTo>
                  <a:lnTo>
                    <a:pt x="115" y="791"/>
                  </a:lnTo>
                  <a:lnTo>
                    <a:pt x="142" y="790"/>
                  </a:lnTo>
                  <a:lnTo>
                    <a:pt x="166" y="791"/>
                  </a:lnTo>
                  <a:lnTo>
                    <a:pt x="199" y="796"/>
                  </a:lnTo>
                  <a:lnTo>
                    <a:pt x="228" y="797"/>
                  </a:lnTo>
                  <a:lnTo>
                    <a:pt x="252" y="799"/>
                  </a:lnTo>
                  <a:lnTo>
                    <a:pt x="285" y="800"/>
                  </a:lnTo>
                  <a:lnTo>
                    <a:pt x="319" y="796"/>
                  </a:lnTo>
                  <a:lnTo>
                    <a:pt x="348" y="790"/>
                  </a:lnTo>
                  <a:lnTo>
                    <a:pt x="375" y="779"/>
                  </a:lnTo>
                  <a:lnTo>
                    <a:pt x="392" y="769"/>
                  </a:lnTo>
                  <a:lnTo>
                    <a:pt x="410" y="752"/>
                  </a:lnTo>
                  <a:lnTo>
                    <a:pt x="424" y="731"/>
                  </a:lnTo>
                  <a:lnTo>
                    <a:pt x="433" y="710"/>
                  </a:lnTo>
                  <a:lnTo>
                    <a:pt x="436" y="688"/>
                  </a:lnTo>
                  <a:lnTo>
                    <a:pt x="434" y="671"/>
                  </a:lnTo>
                  <a:lnTo>
                    <a:pt x="433" y="640"/>
                  </a:lnTo>
                  <a:lnTo>
                    <a:pt x="434" y="608"/>
                  </a:lnTo>
                  <a:lnTo>
                    <a:pt x="440" y="584"/>
                  </a:lnTo>
                  <a:lnTo>
                    <a:pt x="448" y="562"/>
                  </a:lnTo>
                  <a:lnTo>
                    <a:pt x="458" y="545"/>
                  </a:lnTo>
                  <a:lnTo>
                    <a:pt x="479" y="529"/>
                  </a:lnTo>
                  <a:lnTo>
                    <a:pt x="502" y="517"/>
                  </a:lnTo>
                  <a:lnTo>
                    <a:pt x="530" y="508"/>
                  </a:lnTo>
                  <a:lnTo>
                    <a:pt x="559" y="500"/>
                  </a:lnTo>
                  <a:lnTo>
                    <a:pt x="583" y="494"/>
                  </a:lnTo>
                  <a:lnTo>
                    <a:pt x="613" y="490"/>
                  </a:lnTo>
                  <a:lnTo>
                    <a:pt x="641" y="484"/>
                  </a:lnTo>
                  <a:lnTo>
                    <a:pt x="674" y="475"/>
                  </a:lnTo>
                  <a:lnTo>
                    <a:pt x="706" y="461"/>
                  </a:lnTo>
                  <a:lnTo>
                    <a:pt x="733" y="440"/>
                  </a:lnTo>
                  <a:close/>
                </a:path>
              </a:pathLst>
            </a:custGeom>
            <a:solidFill>
              <a:srgbClr val="ff33c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679560" y="3168720"/>
              <a:ext cx="1895400" cy="12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CIS/2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STEP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4" name=""/>
          <p:cNvGrpSpPr/>
          <p:nvPr/>
        </p:nvGrpSpPr>
        <p:grpSpPr>
          <a:xfrm>
            <a:off x="4618080" y="3662280"/>
            <a:ext cx="2754360" cy="2237040"/>
            <a:chOff x="4618080" y="3662280"/>
            <a:chExt cx="2754360" cy="2237040"/>
          </a:xfrm>
        </p:grpSpPr>
        <p:sp>
          <p:nvSpPr>
            <p:cNvPr id="445" name=""/>
            <p:cNvSpPr/>
            <p:nvPr/>
          </p:nvSpPr>
          <p:spPr>
            <a:xfrm>
              <a:off x="4618080" y="3662280"/>
              <a:ext cx="2754360" cy="223704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0" y="1113"/>
                  </a:moveTo>
                  <a:lnTo>
                    <a:pt x="0" y="1409"/>
                  </a:lnTo>
                  <a:lnTo>
                    <a:pt x="1735" y="1409"/>
                  </a:lnTo>
                  <a:lnTo>
                    <a:pt x="1733" y="0"/>
                  </a:lnTo>
                  <a:lnTo>
                    <a:pt x="1579" y="0"/>
                  </a:lnTo>
                  <a:lnTo>
                    <a:pt x="1571" y="27"/>
                  </a:lnTo>
                  <a:lnTo>
                    <a:pt x="1571" y="47"/>
                  </a:lnTo>
                  <a:lnTo>
                    <a:pt x="1576" y="74"/>
                  </a:lnTo>
                  <a:lnTo>
                    <a:pt x="1585" y="102"/>
                  </a:lnTo>
                  <a:lnTo>
                    <a:pt x="1594" y="137"/>
                  </a:lnTo>
                  <a:lnTo>
                    <a:pt x="1598" y="164"/>
                  </a:lnTo>
                  <a:lnTo>
                    <a:pt x="1598" y="188"/>
                  </a:lnTo>
                  <a:lnTo>
                    <a:pt x="1595" y="215"/>
                  </a:lnTo>
                  <a:lnTo>
                    <a:pt x="1588" y="240"/>
                  </a:lnTo>
                  <a:lnTo>
                    <a:pt x="1571" y="264"/>
                  </a:lnTo>
                  <a:lnTo>
                    <a:pt x="1552" y="285"/>
                  </a:lnTo>
                  <a:lnTo>
                    <a:pt x="1531" y="304"/>
                  </a:lnTo>
                  <a:lnTo>
                    <a:pt x="1507" y="318"/>
                  </a:lnTo>
                  <a:lnTo>
                    <a:pt x="1478" y="328"/>
                  </a:lnTo>
                  <a:lnTo>
                    <a:pt x="1453" y="334"/>
                  </a:lnTo>
                  <a:lnTo>
                    <a:pt x="1417" y="336"/>
                  </a:lnTo>
                  <a:lnTo>
                    <a:pt x="1375" y="333"/>
                  </a:lnTo>
                  <a:lnTo>
                    <a:pt x="1348" y="328"/>
                  </a:lnTo>
                  <a:lnTo>
                    <a:pt x="1324" y="322"/>
                  </a:lnTo>
                  <a:lnTo>
                    <a:pt x="1302" y="309"/>
                  </a:lnTo>
                  <a:lnTo>
                    <a:pt x="1273" y="286"/>
                  </a:lnTo>
                  <a:lnTo>
                    <a:pt x="1255" y="265"/>
                  </a:lnTo>
                  <a:lnTo>
                    <a:pt x="1239" y="243"/>
                  </a:lnTo>
                  <a:lnTo>
                    <a:pt x="1230" y="219"/>
                  </a:lnTo>
                  <a:lnTo>
                    <a:pt x="1224" y="197"/>
                  </a:lnTo>
                  <a:lnTo>
                    <a:pt x="1224" y="171"/>
                  </a:lnTo>
                  <a:lnTo>
                    <a:pt x="1227" y="146"/>
                  </a:lnTo>
                  <a:lnTo>
                    <a:pt x="1233" y="122"/>
                  </a:lnTo>
                  <a:lnTo>
                    <a:pt x="1239" y="99"/>
                  </a:lnTo>
                  <a:lnTo>
                    <a:pt x="1246" y="75"/>
                  </a:lnTo>
                  <a:lnTo>
                    <a:pt x="1251" y="51"/>
                  </a:lnTo>
                  <a:lnTo>
                    <a:pt x="1251" y="30"/>
                  </a:lnTo>
                  <a:lnTo>
                    <a:pt x="1245" y="6"/>
                  </a:lnTo>
                  <a:lnTo>
                    <a:pt x="954" y="6"/>
                  </a:lnTo>
                  <a:lnTo>
                    <a:pt x="957" y="56"/>
                  </a:lnTo>
                  <a:lnTo>
                    <a:pt x="954" y="90"/>
                  </a:lnTo>
                  <a:lnTo>
                    <a:pt x="953" y="119"/>
                  </a:lnTo>
                  <a:lnTo>
                    <a:pt x="953" y="144"/>
                  </a:lnTo>
                  <a:lnTo>
                    <a:pt x="950" y="171"/>
                  </a:lnTo>
                  <a:lnTo>
                    <a:pt x="944" y="198"/>
                  </a:lnTo>
                  <a:lnTo>
                    <a:pt x="936" y="216"/>
                  </a:lnTo>
                  <a:lnTo>
                    <a:pt x="926" y="233"/>
                  </a:lnTo>
                  <a:lnTo>
                    <a:pt x="911" y="246"/>
                  </a:lnTo>
                  <a:lnTo>
                    <a:pt x="894" y="256"/>
                  </a:lnTo>
                  <a:lnTo>
                    <a:pt x="875" y="262"/>
                  </a:lnTo>
                  <a:lnTo>
                    <a:pt x="854" y="265"/>
                  </a:lnTo>
                  <a:lnTo>
                    <a:pt x="834" y="267"/>
                  </a:lnTo>
                  <a:lnTo>
                    <a:pt x="809" y="267"/>
                  </a:lnTo>
                  <a:lnTo>
                    <a:pt x="785" y="264"/>
                  </a:lnTo>
                  <a:lnTo>
                    <a:pt x="765" y="262"/>
                  </a:lnTo>
                  <a:lnTo>
                    <a:pt x="740" y="261"/>
                  </a:lnTo>
                  <a:lnTo>
                    <a:pt x="713" y="258"/>
                  </a:lnTo>
                  <a:lnTo>
                    <a:pt x="683" y="258"/>
                  </a:lnTo>
                  <a:lnTo>
                    <a:pt x="657" y="261"/>
                  </a:lnTo>
                  <a:lnTo>
                    <a:pt x="632" y="264"/>
                  </a:lnTo>
                  <a:lnTo>
                    <a:pt x="605" y="271"/>
                  </a:lnTo>
                  <a:lnTo>
                    <a:pt x="586" y="282"/>
                  </a:lnTo>
                  <a:lnTo>
                    <a:pt x="565" y="295"/>
                  </a:lnTo>
                  <a:lnTo>
                    <a:pt x="551" y="313"/>
                  </a:lnTo>
                  <a:lnTo>
                    <a:pt x="538" y="333"/>
                  </a:lnTo>
                  <a:lnTo>
                    <a:pt x="532" y="352"/>
                  </a:lnTo>
                  <a:lnTo>
                    <a:pt x="529" y="375"/>
                  </a:lnTo>
                  <a:lnTo>
                    <a:pt x="532" y="397"/>
                  </a:lnTo>
                  <a:lnTo>
                    <a:pt x="533" y="421"/>
                  </a:lnTo>
                  <a:lnTo>
                    <a:pt x="532" y="447"/>
                  </a:lnTo>
                  <a:lnTo>
                    <a:pt x="527" y="466"/>
                  </a:lnTo>
                  <a:lnTo>
                    <a:pt x="521" y="487"/>
                  </a:lnTo>
                  <a:lnTo>
                    <a:pt x="512" y="507"/>
                  </a:lnTo>
                  <a:lnTo>
                    <a:pt x="500" y="520"/>
                  </a:lnTo>
                  <a:lnTo>
                    <a:pt x="481" y="534"/>
                  </a:lnTo>
                  <a:lnTo>
                    <a:pt x="457" y="543"/>
                  </a:lnTo>
                  <a:lnTo>
                    <a:pt x="433" y="550"/>
                  </a:lnTo>
                  <a:lnTo>
                    <a:pt x="410" y="556"/>
                  </a:lnTo>
                  <a:lnTo>
                    <a:pt x="386" y="562"/>
                  </a:lnTo>
                  <a:lnTo>
                    <a:pt x="355" y="568"/>
                  </a:lnTo>
                  <a:lnTo>
                    <a:pt x="331" y="573"/>
                  </a:lnTo>
                  <a:lnTo>
                    <a:pt x="305" y="580"/>
                  </a:lnTo>
                  <a:lnTo>
                    <a:pt x="284" y="588"/>
                  </a:lnTo>
                  <a:lnTo>
                    <a:pt x="263" y="597"/>
                  </a:lnTo>
                  <a:lnTo>
                    <a:pt x="247" y="609"/>
                  </a:lnTo>
                  <a:lnTo>
                    <a:pt x="232" y="621"/>
                  </a:lnTo>
                  <a:lnTo>
                    <a:pt x="215" y="640"/>
                  </a:lnTo>
                  <a:lnTo>
                    <a:pt x="205" y="658"/>
                  </a:lnTo>
                  <a:lnTo>
                    <a:pt x="196" y="679"/>
                  </a:lnTo>
                  <a:lnTo>
                    <a:pt x="192" y="704"/>
                  </a:lnTo>
                  <a:lnTo>
                    <a:pt x="195" y="728"/>
                  </a:lnTo>
                  <a:lnTo>
                    <a:pt x="198" y="752"/>
                  </a:lnTo>
                  <a:lnTo>
                    <a:pt x="205" y="781"/>
                  </a:lnTo>
                  <a:lnTo>
                    <a:pt x="212" y="812"/>
                  </a:lnTo>
                  <a:lnTo>
                    <a:pt x="218" y="841"/>
                  </a:lnTo>
                  <a:lnTo>
                    <a:pt x="221" y="863"/>
                  </a:lnTo>
                  <a:lnTo>
                    <a:pt x="221" y="884"/>
                  </a:lnTo>
                  <a:lnTo>
                    <a:pt x="218" y="913"/>
                  </a:lnTo>
                  <a:lnTo>
                    <a:pt x="211" y="937"/>
                  </a:lnTo>
                  <a:lnTo>
                    <a:pt x="205" y="958"/>
                  </a:lnTo>
                  <a:lnTo>
                    <a:pt x="196" y="977"/>
                  </a:lnTo>
                  <a:lnTo>
                    <a:pt x="184" y="1003"/>
                  </a:lnTo>
                  <a:lnTo>
                    <a:pt x="168" y="1031"/>
                  </a:lnTo>
                  <a:lnTo>
                    <a:pt x="150" y="1052"/>
                  </a:lnTo>
                  <a:lnTo>
                    <a:pt x="132" y="1068"/>
                  </a:lnTo>
                  <a:lnTo>
                    <a:pt x="115" y="1083"/>
                  </a:lnTo>
                  <a:lnTo>
                    <a:pt x="97" y="1095"/>
                  </a:lnTo>
                  <a:lnTo>
                    <a:pt x="79" y="1103"/>
                  </a:lnTo>
                  <a:lnTo>
                    <a:pt x="54" y="1109"/>
                  </a:lnTo>
                  <a:lnTo>
                    <a:pt x="25" y="1113"/>
                  </a:lnTo>
                  <a:lnTo>
                    <a:pt x="0" y="1113"/>
                  </a:lnTo>
                  <a:close/>
                </a:path>
              </a:pathLst>
            </a:custGeom>
            <a:solidFill>
              <a:srgbClr val="0033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318640" y="4195800"/>
              <a:ext cx="19468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4x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Generi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Resourc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7" name=""/>
          <p:cNvGrpSpPr/>
          <p:nvPr/>
        </p:nvGrpSpPr>
        <p:grpSpPr>
          <a:xfrm>
            <a:off x="4629240" y="1533600"/>
            <a:ext cx="2743200" cy="2668680"/>
            <a:chOff x="4629240" y="1533600"/>
            <a:chExt cx="2743200" cy="2668680"/>
          </a:xfrm>
        </p:grpSpPr>
        <p:sp>
          <p:nvSpPr>
            <p:cNvPr id="448" name=""/>
            <p:cNvSpPr/>
            <p:nvPr/>
          </p:nvSpPr>
          <p:spPr>
            <a:xfrm>
              <a:off x="4629240" y="153360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0" y="351"/>
                  </a:moveTo>
                  <a:lnTo>
                    <a:pt x="0" y="0"/>
                  </a:lnTo>
                  <a:lnTo>
                    <a:pt x="1726" y="0"/>
                  </a:lnTo>
                  <a:lnTo>
                    <a:pt x="1728" y="1343"/>
                  </a:lnTo>
                  <a:lnTo>
                    <a:pt x="1578" y="1343"/>
                  </a:lnTo>
                  <a:lnTo>
                    <a:pt x="1572" y="1355"/>
                  </a:lnTo>
                  <a:lnTo>
                    <a:pt x="1567" y="1371"/>
                  </a:lnTo>
                  <a:lnTo>
                    <a:pt x="1567" y="1385"/>
                  </a:lnTo>
                  <a:lnTo>
                    <a:pt x="1569" y="1401"/>
                  </a:lnTo>
                  <a:lnTo>
                    <a:pt x="1575" y="1422"/>
                  </a:lnTo>
                  <a:lnTo>
                    <a:pt x="1581" y="1449"/>
                  </a:lnTo>
                  <a:lnTo>
                    <a:pt x="1587" y="1467"/>
                  </a:lnTo>
                  <a:lnTo>
                    <a:pt x="1591" y="1490"/>
                  </a:lnTo>
                  <a:lnTo>
                    <a:pt x="1594" y="1511"/>
                  </a:lnTo>
                  <a:lnTo>
                    <a:pt x="1594" y="1532"/>
                  </a:lnTo>
                  <a:lnTo>
                    <a:pt x="1591" y="1551"/>
                  </a:lnTo>
                  <a:lnTo>
                    <a:pt x="1587" y="1572"/>
                  </a:lnTo>
                  <a:lnTo>
                    <a:pt x="1579" y="1591"/>
                  </a:lnTo>
                  <a:lnTo>
                    <a:pt x="1567" y="1606"/>
                  </a:lnTo>
                  <a:lnTo>
                    <a:pt x="1551" y="1624"/>
                  </a:lnTo>
                  <a:lnTo>
                    <a:pt x="1534" y="1638"/>
                  </a:lnTo>
                  <a:lnTo>
                    <a:pt x="1519" y="1651"/>
                  </a:lnTo>
                  <a:lnTo>
                    <a:pt x="1501" y="1662"/>
                  </a:lnTo>
                  <a:lnTo>
                    <a:pt x="1480" y="1669"/>
                  </a:lnTo>
                  <a:lnTo>
                    <a:pt x="1455" y="1677"/>
                  </a:lnTo>
                  <a:lnTo>
                    <a:pt x="1431" y="1680"/>
                  </a:lnTo>
                  <a:lnTo>
                    <a:pt x="1410" y="1681"/>
                  </a:lnTo>
                  <a:lnTo>
                    <a:pt x="1387" y="1681"/>
                  </a:lnTo>
                  <a:lnTo>
                    <a:pt x="1367" y="1680"/>
                  </a:lnTo>
                  <a:lnTo>
                    <a:pt x="1350" y="1677"/>
                  </a:lnTo>
                  <a:lnTo>
                    <a:pt x="1331" y="1671"/>
                  </a:lnTo>
                  <a:lnTo>
                    <a:pt x="1311" y="1665"/>
                  </a:lnTo>
                  <a:lnTo>
                    <a:pt x="1296" y="1656"/>
                  </a:lnTo>
                  <a:lnTo>
                    <a:pt x="1280" y="1644"/>
                  </a:lnTo>
                  <a:lnTo>
                    <a:pt x="1265" y="1629"/>
                  </a:lnTo>
                  <a:lnTo>
                    <a:pt x="1250" y="1612"/>
                  </a:lnTo>
                  <a:lnTo>
                    <a:pt x="1236" y="1596"/>
                  </a:lnTo>
                  <a:lnTo>
                    <a:pt x="1226" y="1578"/>
                  </a:lnTo>
                  <a:lnTo>
                    <a:pt x="1218" y="1556"/>
                  </a:lnTo>
                  <a:lnTo>
                    <a:pt x="1212" y="1530"/>
                  </a:lnTo>
                  <a:lnTo>
                    <a:pt x="1212" y="1506"/>
                  </a:lnTo>
                  <a:lnTo>
                    <a:pt x="1218" y="1482"/>
                  </a:lnTo>
                  <a:lnTo>
                    <a:pt x="1224" y="1458"/>
                  </a:lnTo>
                  <a:lnTo>
                    <a:pt x="1230" y="1434"/>
                  </a:lnTo>
                  <a:lnTo>
                    <a:pt x="1238" y="1407"/>
                  </a:lnTo>
                  <a:lnTo>
                    <a:pt x="1241" y="1386"/>
                  </a:lnTo>
                  <a:lnTo>
                    <a:pt x="1241" y="1374"/>
                  </a:lnTo>
                  <a:lnTo>
                    <a:pt x="1239" y="1364"/>
                  </a:lnTo>
                  <a:lnTo>
                    <a:pt x="1235" y="1352"/>
                  </a:lnTo>
                  <a:lnTo>
                    <a:pt x="947" y="1352"/>
                  </a:lnTo>
                  <a:lnTo>
                    <a:pt x="952" y="1301"/>
                  </a:lnTo>
                  <a:lnTo>
                    <a:pt x="950" y="1272"/>
                  </a:lnTo>
                  <a:lnTo>
                    <a:pt x="947" y="1245"/>
                  </a:lnTo>
                  <a:lnTo>
                    <a:pt x="944" y="1220"/>
                  </a:lnTo>
                  <a:lnTo>
                    <a:pt x="940" y="1203"/>
                  </a:lnTo>
                  <a:lnTo>
                    <a:pt x="932" y="1188"/>
                  </a:lnTo>
                  <a:lnTo>
                    <a:pt x="923" y="1175"/>
                  </a:lnTo>
                  <a:lnTo>
                    <a:pt x="908" y="1163"/>
                  </a:lnTo>
                  <a:lnTo>
                    <a:pt x="892" y="1153"/>
                  </a:lnTo>
                  <a:lnTo>
                    <a:pt x="875" y="1147"/>
                  </a:lnTo>
                  <a:lnTo>
                    <a:pt x="860" y="1144"/>
                  </a:lnTo>
                  <a:lnTo>
                    <a:pt x="835" y="1142"/>
                  </a:lnTo>
                  <a:lnTo>
                    <a:pt x="805" y="1142"/>
                  </a:lnTo>
                  <a:lnTo>
                    <a:pt x="776" y="1145"/>
                  </a:lnTo>
                  <a:lnTo>
                    <a:pt x="745" y="1147"/>
                  </a:lnTo>
                  <a:lnTo>
                    <a:pt x="721" y="1150"/>
                  </a:lnTo>
                  <a:lnTo>
                    <a:pt x="689" y="1151"/>
                  </a:lnTo>
                  <a:lnTo>
                    <a:pt x="664" y="1150"/>
                  </a:lnTo>
                  <a:lnTo>
                    <a:pt x="641" y="1147"/>
                  </a:lnTo>
                  <a:lnTo>
                    <a:pt x="607" y="1139"/>
                  </a:lnTo>
                  <a:lnTo>
                    <a:pt x="585" y="1129"/>
                  </a:lnTo>
                  <a:lnTo>
                    <a:pt x="564" y="1114"/>
                  </a:lnTo>
                  <a:lnTo>
                    <a:pt x="550" y="1097"/>
                  </a:lnTo>
                  <a:lnTo>
                    <a:pt x="538" y="1079"/>
                  </a:lnTo>
                  <a:lnTo>
                    <a:pt x="529" y="1057"/>
                  </a:lnTo>
                  <a:lnTo>
                    <a:pt x="528" y="1033"/>
                  </a:lnTo>
                  <a:lnTo>
                    <a:pt x="528" y="1003"/>
                  </a:lnTo>
                  <a:lnTo>
                    <a:pt x="529" y="980"/>
                  </a:lnTo>
                  <a:lnTo>
                    <a:pt x="528" y="958"/>
                  </a:lnTo>
                  <a:lnTo>
                    <a:pt x="522" y="932"/>
                  </a:lnTo>
                  <a:lnTo>
                    <a:pt x="517" y="917"/>
                  </a:lnTo>
                  <a:lnTo>
                    <a:pt x="510" y="902"/>
                  </a:lnTo>
                  <a:lnTo>
                    <a:pt x="501" y="892"/>
                  </a:lnTo>
                  <a:lnTo>
                    <a:pt x="492" y="883"/>
                  </a:lnTo>
                  <a:lnTo>
                    <a:pt x="472" y="874"/>
                  </a:lnTo>
                  <a:lnTo>
                    <a:pt x="450" y="863"/>
                  </a:lnTo>
                  <a:lnTo>
                    <a:pt x="424" y="856"/>
                  </a:lnTo>
                  <a:lnTo>
                    <a:pt x="394" y="848"/>
                  </a:lnTo>
                  <a:lnTo>
                    <a:pt x="364" y="842"/>
                  </a:lnTo>
                  <a:lnTo>
                    <a:pt x="333" y="838"/>
                  </a:lnTo>
                  <a:lnTo>
                    <a:pt x="310" y="830"/>
                  </a:lnTo>
                  <a:lnTo>
                    <a:pt x="286" y="823"/>
                  </a:lnTo>
                  <a:lnTo>
                    <a:pt x="262" y="814"/>
                  </a:lnTo>
                  <a:lnTo>
                    <a:pt x="246" y="800"/>
                  </a:lnTo>
                  <a:lnTo>
                    <a:pt x="226" y="784"/>
                  </a:lnTo>
                  <a:lnTo>
                    <a:pt x="213" y="769"/>
                  </a:lnTo>
                  <a:lnTo>
                    <a:pt x="201" y="751"/>
                  </a:lnTo>
                  <a:lnTo>
                    <a:pt x="192" y="730"/>
                  </a:lnTo>
                  <a:lnTo>
                    <a:pt x="189" y="708"/>
                  </a:lnTo>
                  <a:lnTo>
                    <a:pt x="189" y="687"/>
                  </a:lnTo>
                  <a:lnTo>
                    <a:pt x="194" y="667"/>
                  </a:lnTo>
                  <a:lnTo>
                    <a:pt x="201" y="639"/>
                  </a:lnTo>
                  <a:lnTo>
                    <a:pt x="208" y="610"/>
                  </a:lnTo>
                  <a:lnTo>
                    <a:pt x="211" y="585"/>
                  </a:lnTo>
                  <a:lnTo>
                    <a:pt x="217" y="559"/>
                  </a:lnTo>
                  <a:lnTo>
                    <a:pt x="220" y="534"/>
                  </a:lnTo>
                  <a:lnTo>
                    <a:pt x="217" y="507"/>
                  </a:lnTo>
                  <a:lnTo>
                    <a:pt x="211" y="483"/>
                  </a:lnTo>
                  <a:lnTo>
                    <a:pt x="202" y="459"/>
                  </a:lnTo>
                  <a:lnTo>
                    <a:pt x="191" y="436"/>
                  </a:lnTo>
                  <a:lnTo>
                    <a:pt x="177" y="418"/>
                  </a:lnTo>
                  <a:lnTo>
                    <a:pt x="170" y="408"/>
                  </a:lnTo>
                  <a:lnTo>
                    <a:pt x="156" y="394"/>
                  </a:lnTo>
                  <a:lnTo>
                    <a:pt x="143" y="383"/>
                  </a:lnTo>
                  <a:lnTo>
                    <a:pt x="129" y="374"/>
                  </a:lnTo>
                  <a:lnTo>
                    <a:pt x="111" y="365"/>
                  </a:lnTo>
                  <a:lnTo>
                    <a:pt x="93" y="359"/>
                  </a:lnTo>
                  <a:lnTo>
                    <a:pt x="71" y="353"/>
                  </a:lnTo>
                  <a:lnTo>
                    <a:pt x="45" y="351"/>
                  </a:lnTo>
                  <a:lnTo>
                    <a:pt x="23" y="351"/>
                  </a:lnTo>
                  <a:lnTo>
                    <a:pt x="0" y="351"/>
                  </a:lnTo>
                  <a:close/>
                </a:path>
              </a:pathLst>
            </a:custGeom>
            <a:solidFill>
              <a:srgbClr val="cc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946040" y="1619280"/>
              <a:ext cx="23860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Physical Fi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Forma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1874880" y="1533600"/>
            <a:ext cx="2754360" cy="2236680"/>
            <a:chOff x="1874880" y="1533600"/>
            <a:chExt cx="2754360" cy="2236680"/>
          </a:xfrm>
        </p:grpSpPr>
        <p:sp>
          <p:nvSpPr>
            <p:cNvPr id="451" name=""/>
            <p:cNvSpPr/>
            <p:nvPr/>
          </p:nvSpPr>
          <p:spPr>
            <a:xfrm>
              <a:off x="1874880" y="1533600"/>
              <a:ext cx="2754360" cy="223668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1735" y="351"/>
                  </a:moveTo>
                  <a:lnTo>
                    <a:pt x="1735" y="0"/>
                  </a:lnTo>
                  <a:lnTo>
                    <a:pt x="0" y="0"/>
                  </a:lnTo>
                  <a:lnTo>
                    <a:pt x="2" y="1409"/>
                  </a:lnTo>
                  <a:lnTo>
                    <a:pt x="156" y="1409"/>
                  </a:lnTo>
                  <a:lnTo>
                    <a:pt x="164" y="1382"/>
                  </a:lnTo>
                  <a:lnTo>
                    <a:pt x="164" y="1362"/>
                  </a:lnTo>
                  <a:lnTo>
                    <a:pt x="159" y="1335"/>
                  </a:lnTo>
                  <a:lnTo>
                    <a:pt x="150" y="1307"/>
                  </a:lnTo>
                  <a:lnTo>
                    <a:pt x="141" y="1272"/>
                  </a:lnTo>
                  <a:lnTo>
                    <a:pt x="137" y="1245"/>
                  </a:lnTo>
                  <a:lnTo>
                    <a:pt x="135" y="1221"/>
                  </a:lnTo>
                  <a:lnTo>
                    <a:pt x="140" y="1194"/>
                  </a:lnTo>
                  <a:lnTo>
                    <a:pt x="147" y="1169"/>
                  </a:lnTo>
                  <a:lnTo>
                    <a:pt x="164" y="1144"/>
                  </a:lnTo>
                  <a:lnTo>
                    <a:pt x="183" y="1124"/>
                  </a:lnTo>
                  <a:lnTo>
                    <a:pt x="204" y="1105"/>
                  </a:lnTo>
                  <a:lnTo>
                    <a:pt x="228" y="1091"/>
                  </a:lnTo>
                  <a:lnTo>
                    <a:pt x="257" y="1079"/>
                  </a:lnTo>
                  <a:lnTo>
                    <a:pt x="282" y="1075"/>
                  </a:lnTo>
                  <a:lnTo>
                    <a:pt x="318" y="1073"/>
                  </a:lnTo>
                  <a:lnTo>
                    <a:pt x="360" y="1076"/>
                  </a:lnTo>
                  <a:lnTo>
                    <a:pt x="387" y="1079"/>
                  </a:lnTo>
                  <a:lnTo>
                    <a:pt x="411" y="1087"/>
                  </a:lnTo>
                  <a:lnTo>
                    <a:pt x="433" y="1100"/>
                  </a:lnTo>
                  <a:lnTo>
                    <a:pt x="462" y="1123"/>
                  </a:lnTo>
                  <a:lnTo>
                    <a:pt x="480" y="1144"/>
                  </a:lnTo>
                  <a:lnTo>
                    <a:pt x="496" y="1166"/>
                  </a:lnTo>
                  <a:lnTo>
                    <a:pt x="505" y="1190"/>
                  </a:lnTo>
                  <a:lnTo>
                    <a:pt x="511" y="1212"/>
                  </a:lnTo>
                  <a:lnTo>
                    <a:pt x="511" y="1238"/>
                  </a:lnTo>
                  <a:lnTo>
                    <a:pt x="508" y="1263"/>
                  </a:lnTo>
                  <a:lnTo>
                    <a:pt x="502" y="1287"/>
                  </a:lnTo>
                  <a:lnTo>
                    <a:pt x="496" y="1310"/>
                  </a:lnTo>
                  <a:lnTo>
                    <a:pt x="489" y="1334"/>
                  </a:lnTo>
                  <a:lnTo>
                    <a:pt x="484" y="1358"/>
                  </a:lnTo>
                  <a:lnTo>
                    <a:pt x="484" y="1379"/>
                  </a:lnTo>
                  <a:lnTo>
                    <a:pt x="490" y="1403"/>
                  </a:lnTo>
                  <a:lnTo>
                    <a:pt x="781" y="1403"/>
                  </a:lnTo>
                  <a:lnTo>
                    <a:pt x="778" y="1353"/>
                  </a:lnTo>
                  <a:lnTo>
                    <a:pt x="781" y="1317"/>
                  </a:lnTo>
                  <a:lnTo>
                    <a:pt x="781" y="1290"/>
                  </a:lnTo>
                  <a:lnTo>
                    <a:pt x="782" y="1265"/>
                  </a:lnTo>
                  <a:lnTo>
                    <a:pt x="785" y="1238"/>
                  </a:lnTo>
                  <a:lnTo>
                    <a:pt x="791" y="1211"/>
                  </a:lnTo>
                  <a:lnTo>
                    <a:pt x="799" y="1193"/>
                  </a:lnTo>
                  <a:lnTo>
                    <a:pt x="809" y="1177"/>
                  </a:lnTo>
                  <a:lnTo>
                    <a:pt x="824" y="1163"/>
                  </a:lnTo>
                  <a:lnTo>
                    <a:pt x="841" y="1153"/>
                  </a:lnTo>
                  <a:lnTo>
                    <a:pt x="860" y="1147"/>
                  </a:lnTo>
                  <a:lnTo>
                    <a:pt x="881" y="1144"/>
                  </a:lnTo>
                  <a:lnTo>
                    <a:pt x="901" y="1142"/>
                  </a:lnTo>
                  <a:lnTo>
                    <a:pt x="926" y="1142"/>
                  </a:lnTo>
                  <a:lnTo>
                    <a:pt x="950" y="1144"/>
                  </a:lnTo>
                  <a:lnTo>
                    <a:pt x="970" y="1147"/>
                  </a:lnTo>
                  <a:lnTo>
                    <a:pt x="995" y="1148"/>
                  </a:lnTo>
                  <a:lnTo>
                    <a:pt x="1022" y="1151"/>
                  </a:lnTo>
                  <a:lnTo>
                    <a:pt x="1052" y="1151"/>
                  </a:lnTo>
                  <a:lnTo>
                    <a:pt x="1078" y="1148"/>
                  </a:lnTo>
                  <a:lnTo>
                    <a:pt x="1103" y="1144"/>
                  </a:lnTo>
                  <a:lnTo>
                    <a:pt x="1130" y="1138"/>
                  </a:lnTo>
                  <a:lnTo>
                    <a:pt x="1150" y="1127"/>
                  </a:lnTo>
                  <a:lnTo>
                    <a:pt x="1170" y="1114"/>
                  </a:lnTo>
                  <a:lnTo>
                    <a:pt x="1184" y="1096"/>
                  </a:lnTo>
                  <a:lnTo>
                    <a:pt x="1197" y="1076"/>
                  </a:lnTo>
                  <a:lnTo>
                    <a:pt x="1203" y="1057"/>
                  </a:lnTo>
                  <a:lnTo>
                    <a:pt x="1206" y="1034"/>
                  </a:lnTo>
                  <a:lnTo>
                    <a:pt x="1203" y="1012"/>
                  </a:lnTo>
                  <a:lnTo>
                    <a:pt x="1202" y="988"/>
                  </a:lnTo>
                  <a:lnTo>
                    <a:pt x="1203" y="962"/>
                  </a:lnTo>
                  <a:lnTo>
                    <a:pt x="1208" y="943"/>
                  </a:lnTo>
                  <a:lnTo>
                    <a:pt x="1214" y="922"/>
                  </a:lnTo>
                  <a:lnTo>
                    <a:pt x="1223" y="902"/>
                  </a:lnTo>
                  <a:lnTo>
                    <a:pt x="1235" y="889"/>
                  </a:lnTo>
                  <a:lnTo>
                    <a:pt x="1254" y="875"/>
                  </a:lnTo>
                  <a:lnTo>
                    <a:pt x="1278" y="866"/>
                  </a:lnTo>
                  <a:lnTo>
                    <a:pt x="1302" y="859"/>
                  </a:lnTo>
                  <a:lnTo>
                    <a:pt x="1325" y="853"/>
                  </a:lnTo>
                  <a:lnTo>
                    <a:pt x="1349" y="847"/>
                  </a:lnTo>
                  <a:lnTo>
                    <a:pt x="1380" y="841"/>
                  </a:lnTo>
                  <a:lnTo>
                    <a:pt x="1404" y="836"/>
                  </a:lnTo>
                  <a:lnTo>
                    <a:pt x="1430" y="829"/>
                  </a:lnTo>
                  <a:lnTo>
                    <a:pt x="1451" y="821"/>
                  </a:lnTo>
                  <a:lnTo>
                    <a:pt x="1472" y="812"/>
                  </a:lnTo>
                  <a:lnTo>
                    <a:pt x="1488" y="800"/>
                  </a:lnTo>
                  <a:lnTo>
                    <a:pt x="1503" y="788"/>
                  </a:lnTo>
                  <a:lnTo>
                    <a:pt x="1520" y="769"/>
                  </a:lnTo>
                  <a:lnTo>
                    <a:pt x="1530" y="751"/>
                  </a:lnTo>
                  <a:lnTo>
                    <a:pt x="1539" y="730"/>
                  </a:lnTo>
                  <a:lnTo>
                    <a:pt x="1544" y="703"/>
                  </a:lnTo>
                  <a:lnTo>
                    <a:pt x="1541" y="681"/>
                  </a:lnTo>
                  <a:lnTo>
                    <a:pt x="1538" y="657"/>
                  </a:lnTo>
                  <a:lnTo>
                    <a:pt x="1530" y="628"/>
                  </a:lnTo>
                  <a:lnTo>
                    <a:pt x="1523" y="597"/>
                  </a:lnTo>
                  <a:lnTo>
                    <a:pt x="1515" y="568"/>
                  </a:lnTo>
                  <a:lnTo>
                    <a:pt x="1514" y="546"/>
                  </a:lnTo>
                  <a:lnTo>
                    <a:pt x="1514" y="525"/>
                  </a:lnTo>
                  <a:lnTo>
                    <a:pt x="1517" y="496"/>
                  </a:lnTo>
                  <a:lnTo>
                    <a:pt x="1524" y="472"/>
                  </a:lnTo>
                  <a:lnTo>
                    <a:pt x="1532" y="454"/>
                  </a:lnTo>
                  <a:lnTo>
                    <a:pt x="1542" y="436"/>
                  </a:lnTo>
                  <a:lnTo>
                    <a:pt x="1557" y="417"/>
                  </a:lnTo>
                  <a:lnTo>
                    <a:pt x="1573" y="397"/>
                  </a:lnTo>
                  <a:lnTo>
                    <a:pt x="1594" y="381"/>
                  </a:lnTo>
                  <a:lnTo>
                    <a:pt x="1617" y="368"/>
                  </a:lnTo>
                  <a:lnTo>
                    <a:pt x="1638" y="360"/>
                  </a:lnTo>
                  <a:lnTo>
                    <a:pt x="1659" y="354"/>
                  </a:lnTo>
                  <a:lnTo>
                    <a:pt x="1681" y="351"/>
                  </a:lnTo>
                  <a:lnTo>
                    <a:pt x="1708" y="351"/>
                  </a:lnTo>
                  <a:lnTo>
                    <a:pt x="1735" y="351"/>
                  </a:lnTo>
                  <a:close/>
                </a:path>
              </a:pathLst>
            </a:custGeom>
            <a:solidFill>
              <a:srgbClr val="008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917000" y="1663560"/>
              <a:ext cx="2010960" cy="11300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1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EXPRE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"/>
          <p:cNvGrpSpPr/>
          <p:nvPr/>
        </p:nvGrpSpPr>
        <p:grpSpPr>
          <a:xfrm>
            <a:off x="1874880" y="3230640"/>
            <a:ext cx="2743200" cy="2668680"/>
            <a:chOff x="1874880" y="3230640"/>
            <a:chExt cx="2743200" cy="2668680"/>
          </a:xfrm>
        </p:grpSpPr>
        <p:sp>
          <p:nvSpPr>
            <p:cNvPr id="454" name=""/>
            <p:cNvSpPr/>
            <p:nvPr/>
          </p:nvSpPr>
          <p:spPr>
            <a:xfrm>
              <a:off x="1874880" y="323064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9933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961280" y="4581360"/>
              <a:ext cx="1767240" cy="119124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2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SDAI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1874880" y="1533600"/>
            <a:ext cx="2754360" cy="2236680"/>
            <a:chOff x="1874880" y="1533600"/>
            <a:chExt cx="2754360" cy="2236680"/>
          </a:xfrm>
        </p:grpSpPr>
        <p:sp>
          <p:nvSpPr>
            <p:cNvPr id="458" name=""/>
            <p:cNvSpPr/>
            <p:nvPr/>
          </p:nvSpPr>
          <p:spPr>
            <a:xfrm>
              <a:off x="1874880" y="1533600"/>
              <a:ext cx="2754360" cy="223668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1735" y="351"/>
                  </a:moveTo>
                  <a:lnTo>
                    <a:pt x="1735" y="0"/>
                  </a:lnTo>
                  <a:lnTo>
                    <a:pt x="0" y="0"/>
                  </a:lnTo>
                  <a:lnTo>
                    <a:pt x="2" y="1409"/>
                  </a:lnTo>
                  <a:lnTo>
                    <a:pt x="156" y="1409"/>
                  </a:lnTo>
                  <a:lnTo>
                    <a:pt x="164" y="1382"/>
                  </a:lnTo>
                  <a:lnTo>
                    <a:pt x="164" y="1362"/>
                  </a:lnTo>
                  <a:lnTo>
                    <a:pt x="159" y="1335"/>
                  </a:lnTo>
                  <a:lnTo>
                    <a:pt x="150" y="1307"/>
                  </a:lnTo>
                  <a:lnTo>
                    <a:pt x="141" y="1272"/>
                  </a:lnTo>
                  <a:lnTo>
                    <a:pt x="137" y="1245"/>
                  </a:lnTo>
                  <a:lnTo>
                    <a:pt x="135" y="1221"/>
                  </a:lnTo>
                  <a:lnTo>
                    <a:pt x="140" y="1194"/>
                  </a:lnTo>
                  <a:lnTo>
                    <a:pt x="147" y="1169"/>
                  </a:lnTo>
                  <a:lnTo>
                    <a:pt x="164" y="1144"/>
                  </a:lnTo>
                  <a:lnTo>
                    <a:pt x="183" y="1124"/>
                  </a:lnTo>
                  <a:lnTo>
                    <a:pt x="204" y="1105"/>
                  </a:lnTo>
                  <a:lnTo>
                    <a:pt x="228" y="1091"/>
                  </a:lnTo>
                  <a:lnTo>
                    <a:pt x="257" y="1079"/>
                  </a:lnTo>
                  <a:lnTo>
                    <a:pt x="282" y="1075"/>
                  </a:lnTo>
                  <a:lnTo>
                    <a:pt x="318" y="1073"/>
                  </a:lnTo>
                  <a:lnTo>
                    <a:pt x="360" y="1076"/>
                  </a:lnTo>
                  <a:lnTo>
                    <a:pt x="387" y="1079"/>
                  </a:lnTo>
                  <a:lnTo>
                    <a:pt x="411" y="1087"/>
                  </a:lnTo>
                  <a:lnTo>
                    <a:pt x="433" y="1100"/>
                  </a:lnTo>
                  <a:lnTo>
                    <a:pt x="462" y="1123"/>
                  </a:lnTo>
                  <a:lnTo>
                    <a:pt x="480" y="1144"/>
                  </a:lnTo>
                  <a:lnTo>
                    <a:pt x="496" y="1166"/>
                  </a:lnTo>
                  <a:lnTo>
                    <a:pt x="505" y="1190"/>
                  </a:lnTo>
                  <a:lnTo>
                    <a:pt x="511" y="1212"/>
                  </a:lnTo>
                  <a:lnTo>
                    <a:pt x="511" y="1238"/>
                  </a:lnTo>
                  <a:lnTo>
                    <a:pt x="508" y="1263"/>
                  </a:lnTo>
                  <a:lnTo>
                    <a:pt x="502" y="1287"/>
                  </a:lnTo>
                  <a:lnTo>
                    <a:pt x="496" y="1310"/>
                  </a:lnTo>
                  <a:lnTo>
                    <a:pt x="489" y="1334"/>
                  </a:lnTo>
                  <a:lnTo>
                    <a:pt x="484" y="1358"/>
                  </a:lnTo>
                  <a:lnTo>
                    <a:pt x="484" y="1379"/>
                  </a:lnTo>
                  <a:lnTo>
                    <a:pt x="490" y="1403"/>
                  </a:lnTo>
                  <a:lnTo>
                    <a:pt x="781" y="1403"/>
                  </a:lnTo>
                  <a:lnTo>
                    <a:pt x="778" y="1353"/>
                  </a:lnTo>
                  <a:lnTo>
                    <a:pt x="781" y="1317"/>
                  </a:lnTo>
                  <a:lnTo>
                    <a:pt x="781" y="1290"/>
                  </a:lnTo>
                  <a:lnTo>
                    <a:pt x="782" y="1265"/>
                  </a:lnTo>
                  <a:lnTo>
                    <a:pt x="785" y="1238"/>
                  </a:lnTo>
                  <a:lnTo>
                    <a:pt x="791" y="1211"/>
                  </a:lnTo>
                  <a:lnTo>
                    <a:pt x="799" y="1193"/>
                  </a:lnTo>
                  <a:lnTo>
                    <a:pt x="809" y="1177"/>
                  </a:lnTo>
                  <a:lnTo>
                    <a:pt x="824" y="1163"/>
                  </a:lnTo>
                  <a:lnTo>
                    <a:pt x="841" y="1153"/>
                  </a:lnTo>
                  <a:lnTo>
                    <a:pt x="860" y="1147"/>
                  </a:lnTo>
                  <a:lnTo>
                    <a:pt x="881" y="1144"/>
                  </a:lnTo>
                  <a:lnTo>
                    <a:pt x="901" y="1142"/>
                  </a:lnTo>
                  <a:lnTo>
                    <a:pt x="926" y="1142"/>
                  </a:lnTo>
                  <a:lnTo>
                    <a:pt x="950" y="1144"/>
                  </a:lnTo>
                  <a:lnTo>
                    <a:pt x="970" y="1147"/>
                  </a:lnTo>
                  <a:lnTo>
                    <a:pt x="995" y="1148"/>
                  </a:lnTo>
                  <a:lnTo>
                    <a:pt x="1022" y="1151"/>
                  </a:lnTo>
                  <a:lnTo>
                    <a:pt x="1052" y="1151"/>
                  </a:lnTo>
                  <a:lnTo>
                    <a:pt x="1078" y="1148"/>
                  </a:lnTo>
                  <a:lnTo>
                    <a:pt x="1103" y="1144"/>
                  </a:lnTo>
                  <a:lnTo>
                    <a:pt x="1130" y="1138"/>
                  </a:lnTo>
                  <a:lnTo>
                    <a:pt x="1150" y="1127"/>
                  </a:lnTo>
                  <a:lnTo>
                    <a:pt x="1170" y="1114"/>
                  </a:lnTo>
                  <a:lnTo>
                    <a:pt x="1184" y="1096"/>
                  </a:lnTo>
                  <a:lnTo>
                    <a:pt x="1197" y="1076"/>
                  </a:lnTo>
                  <a:lnTo>
                    <a:pt x="1203" y="1057"/>
                  </a:lnTo>
                  <a:lnTo>
                    <a:pt x="1206" y="1034"/>
                  </a:lnTo>
                  <a:lnTo>
                    <a:pt x="1203" y="1012"/>
                  </a:lnTo>
                  <a:lnTo>
                    <a:pt x="1202" y="988"/>
                  </a:lnTo>
                  <a:lnTo>
                    <a:pt x="1203" y="962"/>
                  </a:lnTo>
                  <a:lnTo>
                    <a:pt x="1208" y="943"/>
                  </a:lnTo>
                  <a:lnTo>
                    <a:pt x="1214" y="922"/>
                  </a:lnTo>
                  <a:lnTo>
                    <a:pt x="1223" y="902"/>
                  </a:lnTo>
                  <a:lnTo>
                    <a:pt x="1235" y="889"/>
                  </a:lnTo>
                  <a:lnTo>
                    <a:pt x="1254" y="875"/>
                  </a:lnTo>
                  <a:lnTo>
                    <a:pt x="1278" y="866"/>
                  </a:lnTo>
                  <a:lnTo>
                    <a:pt x="1302" y="859"/>
                  </a:lnTo>
                  <a:lnTo>
                    <a:pt x="1325" y="853"/>
                  </a:lnTo>
                  <a:lnTo>
                    <a:pt x="1349" y="847"/>
                  </a:lnTo>
                  <a:lnTo>
                    <a:pt x="1380" y="841"/>
                  </a:lnTo>
                  <a:lnTo>
                    <a:pt x="1404" y="836"/>
                  </a:lnTo>
                  <a:lnTo>
                    <a:pt x="1430" y="829"/>
                  </a:lnTo>
                  <a:lnTo>
                    <a:pt x="1451" y="821"/>
                  </a:lnTo>
                  <a:lnTo>
                    <a:pt x="1472" y="812"/>
                  </a:lnTo>
                  <a:lnTo>
                    <a:pt x="1488" y="800"/>
                  </a:lnTo>
                  <a:lnTo>
                    <a:pt x="1503" y="788"/>
                  </a:lnTo>
                  <a:lnTo>
                    <a:pt x="1520" y="769"/>
                  </a:lnTo>
                  <a:lnTo>
                    <a:pt x="1530" y="751"/>
                  </a:lnTo>
                  <a:lnTo>
                    <a:pt x="1539" y="730"/>
                  </a:lnTo>
                  <a:lnTo>
                    <a:pt x="1544" y="703"/>
                  </a:lnTo>
                  <a:lnTo>
                    <a:pt x="1541" y="681"/>
                  </a:lnTo>
                  <a:lnTo>
                    <a:pt x="1538" y="657"/>
                  </a:lnTo>
                  <a:lnTo>
                    <a:pt x="1530" y="628"/>
                  </a:lnTo>
                  <a:lnTo>
                    <a:pt x="1523" y="597"/>
                  </a:lnTo>
                  <a:lnTo>
                    <a:pt x="1515" y="568"/>
                  </a:lnTo>
                  <a:lnTo>
                    <a:pt x="1514" y="546"/>
                  </a:lnTo>
                  <a:lnTo>
                    <a:pt x="1514" y="525"/>
                  </a:lnTo>
                  <a:lnTo>
                    <a:pt x="1517" y="496"/>
                  </a:lnTo>
                  <a:lnTo>
                    <a:pt x="1524" y="472"/>
                  </a:lnTo>
                  <a:lnTo>
                    <a:pt x="1532" y="454"/>
                  </a:lnTo>
                  <a:lnTo>
                    <a:pt x="1542" y="436"/>
                  </a:lnTo>
                  <a:lnTo>
                    <a:pt x="1557" y="417"/>
                  </a:lnTo>
                  <a:lnTo>
                    <a:pt x="1573" y="397"/>
                  </a:lnTo>
                  <a:lnTo>
                    <a:pt x="1594" y="381"/>
                  </a:lnTo>
                  <a:lnTo>
                    <a:pt x="1617" y="368"/>
                  </a:lnTo>
                  <a:lnTo>
                    <a:pt x="1638" y="360"/>
                  </a:lnTo>
                  <a:lnTo>
                    <a:pt x="1659" y="354"/>
                  </a:lnTo>
                  <a:lnTo>
                    <a:pt x="1681" y="351"/>
                  </a:lnTo>
                  <a:lnTo>
                    <a:pt x="1708" y="351"/>
                  </a:lnTo>
                  <a:lnTo>
                    <a:pt x="1735" y="351"/>
                  </a:lnTo>
                  <a:close/>
                </a:path>
              </a:pathLst>
            </a:custGeom>
            <a:solidFill>
              <a:srgbClr val="008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17000" y="1663560"/>
              <a:ext cx="2010960" cy="11300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1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EXPRE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4533840" y="2590920"/>
            <a:ext cx="4324320" cy="32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571680" indent="-571680">
              <a:lnSpc>
                <a:spcPct val="100000"/>
              </a:lnSpc>
              <a:spcBef>
                <a:spcPts val="1199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800" spc="-1" strike="noStrike">
                <a:solidFill>
                  <a:srgbClr val="ffff00"/>
                </a:solidFill>
                <a:latin typeface="Arial"/>
              </a:rPr>
              <a:t>Question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PRESS: Its origin in STEP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TEP needed a modelling language that was: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dependent of a storage or programming paradigm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xchangeable in ASCII between different computers using different operating systems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ufficiently rigorous to define all the constraints  required to model product data, and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mpilable into a schema for at least one of the following: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1)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n exchange file </a:t>
            </a:r>
            <a:r>
              <a:rPr b="1" i="1" lang="en-GB" sz="1800" spc="-1" strike="noStrike">
                <a:solidFill>
                  <a:srgbClr val="ffff00"/>
                </a:solidFill>
                <a:latin typeface="Arial"/>
              </a:rPr>
              <a:t>(Level 1 Implementation form)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,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2)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 shared memory </a:t>
            </a:r>
            <a:r>
              <a:rPr b="1" i="1" lang="en-GB" sz="1800" spc="-1" strike="noStrike">
                <a:solidFill>
                  <a:srgbClr val="ffff00"/>
                </a:solidFill>
                <a:latin typeface="Arial"/>
              </a:rPr>
              <a:t>(Level 2 Implementation form),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3)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 shared logical database </a:t>
            </a:r>
            <a:r>
              <a:rPr b="1" i="1" lang="en-GB" sz="1800" spc="-1" strike="noStrike">
                <a:solidFill>
                  <a:srgbClr val="ffff00"/>
                </a:solidFill>
                <a:latin typeface="Arial"/>
              </a:rPr>
              <a:t>(Level 3 Implementation form)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,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4)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 share knowledge base </a:t>
            </a:r>
            <a:r>
              <a:rPr b="1" i="1" lang="en-GB" sz="1800" spc="-1" strike="noStrike">
                <a:solidFill>
                  <a:srgbClr val="ffff00"/>
                </a:solidFill>
                <a:latin typeface="Arial"/>
              </a:rPr>
              <a:t>(Level 4 Implementation form)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SO 10303-11: 1994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 standard language for data specification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forms a neutral computer processable conceptual schem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an be parsed into a variety of format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(e.g. SQL, C++, FORTRAN).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t allows a data model of a product to be defined in terms of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 schema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ntaining entitie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ith attributes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nd constraints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Role of EXPRES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XPRESS has been created specifically to define the information throughout a product’s life-cycle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XPRESS itself does not provide for the definition of database formats, file formats, or transfer syntax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00"/>
                </a:solidFill>
                <a:latin typeface="Arial"/>
              </a:rPr>
              <a:t>Other parts of ISO 10303 provide for mappings from EXPRESS schemata to implementation forms;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00"/>
                </a:solidFill>
                <a:latin typeface="Arial"/>
              </a:rPr>
              <a:t>(e.g. ISO 10303-21 which defines the exchange file format).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XPRESS data models are used to generate the data structures held within the STEP physical file using the mappings defined in the standard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00"/>
                </a:solidFill>
                <a:latin typeface="Arial"/>
              </a:rPr>
              <a:t>However, the STEP physical file format is totally independent of EXPRESS.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Use of EXPRESS in LPM/5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76280" indent="-4762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PM/5 is the key component of CIS/2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476280" indent="-4762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Graphically presented in EXPRESS-G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476280" indent="-4762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Formally specified in EXPR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1047600" indent="-38088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hort form (containing definitions of specialized constructs)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47600" indent="-38088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Long form (implementation schema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: EXPRESS Short Form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PM/5 EXPRESS Schema 'short form'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rovides illustrated descriptions of LPM/5 entiti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with their attributes &amp; formal propositions (rules &amp; constraints),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together with references to STEP resources.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00"/>
                </a:solidFill>
                <a:latin typeface="Arial"/>
              </a:rPr>
              <a:t>It does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not</a:t>
            </a:r>
            <a:r>
              <a:rPr b="1" i="1" lang="en-GB" sz="1800" spc="-1" strike="noStrike">
                <a:solidFill>
                  <a:srgbClr val="ffff00"/>
                </a:solidFill>
                <a:latin typeface="Arial"/>
              </a:rPr>
              <a:t> repeat the definitions of those STEP entities that have been used from the Generic Resources.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ntai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Schema Declaration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Schema Interface Declarations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Type Declarations </a:t>
            </a:r>
            <a:r>
              <a:rPr b="1" i="1" lang="en-GB" sz="1800" spc="-1" strike="noStrike">
                <a:solidFill>
                  <a:srgbClr val="ffff00"/>
                </a:solidFill>
                <a:latin typeface="Arial"/>
              </a:rPr>
              <a:t>- for Types specific to LPM/5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Declarations </a:t>
            </a:r>
            <a:r>
              <a:rPr b="1" i="1" lang="en-GB" sz="1800" spc="-1" strike="noStrike">
                <a:solidFill>
                  <a:srgbClr val="ffff00"/>
                </a:solidFill>
                <a:latin typeface="Arial"/>
              </a:rPr>
              <a:t>- for Entities specific to LPM/5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Rule Declarations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Function Declarations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 EXPRESS Long Form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PM/5 EXPRESS Schema 'long form’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ne single schema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ith all the inter-schema references resolved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ntains no definitions or explanations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erely an EXPRESS long form listing of the CIS/2 implementation schema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ntai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Schema Declaration - STRUCTURAL_FRAME_SCHEMA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Type Declarations </a:t>
            </a:r>
            <a:r>
              <a:rPr b="1" i="1" lang="en-GB" sz="1800" spc="-1" strike="noStrike">
                <a:solidFill>
                  <a:srgbClr val="ffff00"/>
                </a:solidFill>
                <a:latin typeface="Arial"/>
              </a:rPr>
              <a:t>- for all (Generic &amp; Specific) Types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Declarations </a:t>
            </a:r>
            <a:r>
              <a:rPr b="1" i="1" lang="en-GB" sz="1800" spc="-1" strike="noStrike">
                <a:solidFill>
                  <a:srgbClr val="ffff00"/>
                </a:solidFill>
                <a:latin typeface="Arial"/>
              </a:rPr>
              <a:t>- for all (Generic &amp; Specific) Entities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Rule Declarations </a:t>
            </a:r>
            <a:r>
              <a:rPr b="1" i="1" lang="en-GB" sz="1800" spc="-1" strike="noStrike">
                <a:solidFill>
                  <a:srgbClr val="ffff00"/>
                </a:solidFill>
                <a:latin typeface="Arial"/>
              </a:rPr>
              <a:t>- for all (imported) Rules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Function Declarations </a:t>
            </a:r>
            <a:r>
              <a:rPr b="1" i="1" lang="en-GB" sz="1800" spc="-1" strike="noStrike">
                <a:solidFill>
                  <a:srgbClr val="ffff00"/>
                </a:solidFill>
                <a:latin typeface="Arial"/>
              </a:rPr>
              <a:t>- for all (imported) Functions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16T13:32:24Z</dcterms:created>
  <dc:creator>Peter Whiteman</dc:creator>
  <dc:description/>
  <dc:language>en-US</dc:language>
  <cp:lastModifiedBy>Andrew Crowley</cp:lastModifiedBy>
  <cp:lastPrinted>1999-02-12T09:16:18Z</cp:lastPrinted>
  <dcterms:modified xsi:type="dcterms:W3CDTF">1999-06-18T19:36:37Z</dcterms:modified>
  <cp:revision>84</cp:revision>
  <dc:subject/>
  <dc:title>No Slide Title</dc:title>
</cp:coreProperties>
</file>