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D33C-92DE-421F-AF4B-6F3521D56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C0E7-0EB9-4055-88DA-69751F735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82E3-0968-4854-9C6D-56124D71C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E64F-3BC9-42D6-8E7C-4B0639D70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9571-FD24-46B4-9BD0-FDDB26793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4FB6-509F-4D0D-876D-D6328FC00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550E-ECB9-4EFD-A457-490A75154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C57B-D4F7-4B55-983E-FC373CF9B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A5B7-DB38-4E23-A765-A0959A9DB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E482-C962-4862-B968-27831C824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00C4-00F6-4A23-A496-0F4A29EB2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3E56-C3E8-459E-B3F6-A901B1410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E49D-7D93-4A94-8399-3508C8890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F5AADDA-1911-4F82-8237-278630945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8B243E8-2EDD-4689-8E0F-FDE872856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1A0F3C4-36B0-4B5B-B218-F5149D203E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90F254F-C0B6-4B42-9DF5-E1276E7487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A559D-C67D-4BB1-A5A8-A1F652768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5E485-C95F-4A14-B017-358409E28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26EF5-F059-4CCC-AF68-8BD633781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3C33B-BBDB-491C-B1DA-A27B28EE2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23C65-CA71-4EF4-8B63-3D7A2B6A0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C91C0-FF91-449E-B134-CF199AE7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157D-9816-4E0A-A153-DC9C840B9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349F2CD-C4AE-4F46-AF68-D2914A954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2042A-2820-4624-9E01-37B5D0706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38616-4321-49A0-8A4F-45A45E56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6DC1A-96B4-47C4-8942-4FB0EF3D5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9E238-EABB-4C83-B5CC-3714DAFB6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BB3BA-DEFE-41DD-903E-9A1CF0FB1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89E882E-1F9B-4DBB-98F6-BD88647F1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39E78BA-A8A1-457C-86C6-ED04418B3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7C092FA-DFFC-4884-961D-DA2517E41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7A6BEE4-4AEA-4C22-9CCC-2A80336AB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3C65D98-41D7-4E76-84A9-F38E3F97E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C99960-23D1-47DE-AA62-A2921196E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22EF28F-D9A3-4E40-BA43-3BD96FE8BA3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4052-0E9F-4691-B446-7721E067CF0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013E-C6B7-40F0-AEC9-3954EAB7AF48}"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970D-8E3B-43C7-9258-A1D2CFDC3A93}" type="datetime3">
              <a:rPr b="0" lang="en-US" sz="900" spc="-1" strike="noStrike">
                <a:solidFill>
                  <a:srgbClr val="4d4d4d"/>
                </a:solidFill>
                <a:latin typeface="Arial"/>
              </a:rPr>
              <a:t>July 30,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60B4-5CB2-46D2-A0A8-C80391A8892D}"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7EB2-4E87-4DB4-BEE4-53C50076E1E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E749-1217-4E7C-99B2-22157C263B2A}"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E819-6215-483B-BA55-95CB5659EDB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56E0-1573-4D89-9C0F-C342D60BAE8A}"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DA1A-4568-42DC-9E20-DF335C5B3C7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853B-8A2D-4E7E-9C95-DB431414783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C46C-6BE2-4ED7-B453-62F1C6493FB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52B6-742F-4B75-B305-8D3B662EE4D5}"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3E55-966B-42E6-934A-941453D00C2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231C-6A34-466E-AA1C-25C091533A24}"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2AFA-C65B-4D42-AA4B-93F75F5CB21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9D5E-7C40-4F00-9511-4F55504C11C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8DD5-7280-4D6F-A151-0D94A033645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4366-D919-4BF1-942C-784F4322BBAE}"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5C7A-12E8-46C2-9903-F766B8ED1B9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20BB-3AD5-4101-BDA9-4639ED12E2A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D0EC-24B1-4235-B46B-BF0BDD9A7DD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ACAB-CE26-4C37-9F6A-D4E8BABBA017}"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AF9C-FDD6-46B0-B6F1-79D2C2B3E81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5737-3AF8-42A6-AC53-21B0E40ACAB3}"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66F6-1E6D-4483-8689-99D62AF061B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0109-3A22-4B20-AB4E-35DF5AD72E0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6E6E-9000-4B67-BC9C-660B861383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5614-2A43-4DAA-8804-D150F26B3E28}"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7487-4F96-43A5-83C5-B59F4C687FD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32A9-EA83-4BF7-BCA0-8652BB17A41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C86E-0132-43B5-9CAA-2E38DFDBD5C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8CD0-9F21-437C-BAA7-BAFA11D941D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10BA-0370-4220-A8DD-9BB88FDFE1A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C326-3A93-405D-93D6-D9E2B1A0E6C0}"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BB7D-1C59-413A-B8CB-89D06B4517E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C68B-21EB-4977-A364-1B473A84BDB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8C3A-4ABD-43B8-9479-83EC3F1A53B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3BF1-ECF4-47BB-A119-932281B53883}"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7E43-73FA-4D8A-8EDA-FC22A4E14E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86D6-033C-4BFA-811F-604E6438C7C2}"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7FB2-2F91-44CD-9BD6-8E7DABAAB88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D26C-61CA-4D8E-ACBF-54E7B000244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C172-25B4-403A-A231-FEE7F381BC2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5CB9-A203-4206-9AF5-659F5730C28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BC58-EC89-40EC-AAD8-9EBBD2A86CA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9CBF-85D1-44A7-B30E-02F85E76DE1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7D79-F2CB-46E8-8B4B-75BAEC8CF9B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9074-144D-48D3-85B1-07536FF2BFB9}"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F1BA-AD68-4C8F-B933-6251D7996D1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4E84-F704-4E88-A79F-994296BB7D2E}"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41E2-97FC-43C2-9F63-6D562853ABC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55AD-E6AE-4B79-8D78-6D614B4040D8}"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1DA5-021C-4D3B-886A-6C2A0FFBAA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490E-627F-41E4-994B-82FEEE177E67}"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59A4-5905-486D-8D2F-29ADAF10C31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1253-AC6A-4E6E-BDA9-2EFBE2EB2D77}"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D730-91CA-42A7-8206-4F1C93DDE82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3CC4-2186-4EE0-B721-8E528422D62C}"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8E1C-8AFB-4EA6-AECC-D647A0C1D2E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8129-3058-4BAA-82C9-A5B070C5BF7E}"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4D0E-8B60-4E22-A7B2-C83E03A4D1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1F62-4694-4D73-991E-C12F7A0915A3}"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ABC2-84D6-496F-AECD-5B7517AA625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E042-0BA7-49B0-8E15-BA4BF064E50E}"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5740-33AF-46BE-8C95-5820CD87238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7B47-6996-40F1-816A-53783B660A55}"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925D-F5F8-4CCE-AA25-1802424B72C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6041-DDF0-4CDE-94C4-5ADB34C93F8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DC0F-37F6-4442-996D-A3E7B253D0A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648C-BAED-432C-BEE6-D15F8629B5CD}"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8AF3-F606-4303-8329-E272BB69B51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7E9F-0F1D-4505-B8D8-DF564C145165}"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6F05-2730-4C07-A307-538F4F4516A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81B0-CE8C-4DE5-A9A8-398D5AD9C75A}"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E71E-0B9C-4D7F-B918-A64DEAFFA7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4BCC-B2A2-473E-87B6-7FF7A0472CE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5F1E-FC7B-4402-9253-5F2FF43DD46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5FF2-666B-48C4-9D0A-DABB339EB4E8}"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CCE4-CDC9-4D59-B9DD-931B57D3CD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CD0C-53FC-4975-8691-9FE2EA0CD894}"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C6FD-1443-401D-B49B-F989CA12086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3E42-EFC1-45B3-BEBE-21828399A83C}"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7112-B7AC-48F9-A00C-4B1CED27772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FDB9-67D6-42E3-B612-431C3B65990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59D5-A8C0-42C7-A449-F36645E1537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B69D-FFC5-400D-858D-000796979942}"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1EE7-A7C3-43BF-BC3A-F322193CA0C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59E3-18F0-429C-9582-0BBF18810F0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FF3D-B297-464A-937A-E6DA5BEE1CA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5224-D4BB-4DA6-9D10-4B9734185186}"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1B9A-5699-46C3-8955-066B95D5918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34FD-3BE0-4159-AC2D-14E505D40B95}"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E6EB-3433-48CC-B163-6F1975B2181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EB08-EEA0-4A9E-B477-17F7B007F991}"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D409-A05B-46F7-859D-6AA70E6FE41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3CC1-8C21-40BF-A8AD-9F7A1A839A2F}"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26EE-75B8-4BFB-B2DF-532063B8A6F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25BF-85DD-44D0-ADCB-D7C4FD3995A9}"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1FA5-2EBE-4A3F-869B-91B2D26D98C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1631-C2AA-4F72-A68B-760AC95BA7B5}"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FC64-BA93-415A-8E56-66EC9664713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7CA9-050A-4211-BF87-09CDC965C577}"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FA4A-5CE9-4221-BC35-356DA772143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CB06-7A43-44A6-9DC8-6414252BED4B}"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9F96-5AD7-4D67-BCA2-D96690256E2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49B8-9A2A-462A-A07A-9F9FC24FC748}"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2450-B95A-4E1D-B99F-A4862C0932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2098-FC1D-4FFF-A717-3043C10E95AC}"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B06F-A9A7-48B9-9CE5-9366CB12DE9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CFF7-9AA9-4F3F-A10A-D6717C08C89C}" type="datetime3">
              <a:rPr b="0" lang="en-US" sz="800" spc="-1" strike="noStrike">
                <a:solidFill>
                  <a:srgbClr val="4d4d4d"/>
                </a:solidFill>
                <a:latin typeface="Arial"/>
              </a:rPr>
              <a:t>July 30,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